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9332-85A8-439A-B7B3-A82507574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9A0D-8CDE-491C-8180-9ED99C01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95CE-B26B-446B-80D1-B5E8404DF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71A6-65F2-45DA-A6AD-56924AB83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28AA-FD8C-4D5C-B32E-53CA4EDA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B026-9432-4998-A39A-43FD0030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BF5E-D90F-4F5F-AA3B-0B82108E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5E64-58B7-4C2F-B099-388936A9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77E1-2CCE-4111-A6CF-080F2039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2D8B-A05F-4746-A2AF-E8E1B61A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EFB4-1E9C-40A3-9677-57A3DBB7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5672-8606-4438-9B1D-D90B8816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10AA-AF44-4340-A62A-3F413959AAC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468360" y="4653000"/>
            <a:ext cx="7775640" cy="20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 Ученица 8 класса,  Газизуллина Алина Рамил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учитель Б. З. Наилев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СОШ с. Райманово ,улица Гагарина 35,                                 Туймазинского  района, Р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АУП\Desktop\к\940373_1920x1080x500.jpg"/>
          <p:cNvPicPr/>
          <p:nvPr/>
        </p:nvPicPr>
        <p:blipFill>
          <a:blip r:embed="rId1"/>
          <a:stretch/>
        </p:blipFill>
        <p:spPr>
          <a:xfrm>
            <a:off x="1187280" y="476280"/>
            <a:ext cx="676944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324000" y="836640"/>
            <a:ext cx="7993080" cy="45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ильме принимал участие ансамбль танца «Ритмы планеты» под руководством Б. Санк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ни для фильма исполнила Жанна Рождественская: хотя Муравьёва умела прилично петь, Лиознова хотела, чтобы вокал был более идеальным. Хотя Муравьёвой в целом понравилось исполнение Рождественской, она всё же была недовольна, что ей не дали спеть своим голосом, и поэтому в 1983 году, после выхода фильма на экран, фирма «Мелодия» выпустила гибкую грампластинку «миньон» со шлягером «Позвони мне, позвони…» в исполнении Муравье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 в фильме звучат известная песня Never Can Say Goodbye в исполнении Глории Гейнор, Il tempo se ne va Адриано Челентано и композиция «Зодиак» одноимённой латвийской групп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250920" y="476280"/>
            <a:ext cx="8642160" cy="24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рады и дости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ьм занял 9-е место по итогам проката 1982 года — 30,4 млн зр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дер телевизионного рейтинга (1998, данные агентства «Телескоп») — 22,5 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ина Муравьёва за исполнение главной роли признана лучшей актрисой 1982 года по результатам опроса читателей журнала «Советский экра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АУП\Desktop\к\142190.jpg"/>
          <p:cNvPicPr/>
          <p:nvPr/>
        </p:nvPicPr>
        <p:blipFill>
          <a:blip r:embed="rId1"/>
          <a:stretch/>
        </p:blipFill>
        <p:spPr>
          <a:xfrm>
            <a:off x="1692360" y="981000"/>
            <a:ext cx="63230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1835280" y="404640"/>
            <a:ext cx="5905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песни «Позвони мне, позвон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: быстр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: сред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ика: гром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: 1 куплет, 2 куплета, 3 купл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1835280" y="404640"/>
            <a:ext cx="5905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песни «Пусть не меркнут огн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: умерен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ика:  тих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: сред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: 1 куплет, Припев, 2 куплета, Прип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1835280" y="404640"/>
            <a:ext cx="590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песни «Цыганская песн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: медлен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ика: очень тих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: низ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1835280" y="404640"/>
            <a:ext cx="5905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песни «Спасибо, жизнь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: умерен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ика: гром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: сред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: 1 куплет, Припев, 2 куплета, Прип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АУП\Desktop\к\42.jpg"/>
          <p:cNvPicPr/>
          <p:nvPr/>
        </p:nvPicPr>
        <p:blipFill>
          <a:blip r:embed="rId1"/>
          <a:stretch/>
        </p:blipFill>
        <p:spPr>
          <a:xfrm>
            <a:off x="1000080" y="1047600"/>
            <a:ext cx="714384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971640" y="765000"/>
            <a:ext cx="648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песни понравились больше всего?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больше всего понравилась песня «Позвони мне, позвони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у что она очень интересная, мне понравилась мелодия и текст песни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песня очень нравится моим родителям, они вспоминают молодость слушая её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4427640" y="333360"/>
            <a:ext cx="4176720" cy="569268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2"/>
          <p:cNvSpPr/>
          <p:nvPr/>
        </p:nvSpPr>
        <p:spPr>
          <a:xfrm>
            <a:off x="158760" y="333360"/>
            <a:ext cx="4103640" cy="53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рнава́л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советский художественный фильм 1981 год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иссёр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тьяны    Лиозновой, снятый на Киностудии им. Горьк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втор сценар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на Родионов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 главных  ролях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ина Муравьёва, Александр Абдулов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ра Лучко, Юрий Яковл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перато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Петр Ката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мпозито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аксим Дунаев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1116000" y="692280"/>
            <a:ext cx="705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из современных исполнителей в наше время исполнял песни из фильма «Карнавал»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современных исполнителей, песни пели Н. Королёва, Е. Ваенга и группа А-студия (Песня «Позвони мне, позвони»), Е. Гусева (« Спасибо, жизнь!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исполнили песни очень хорошо, практически передали все эмоции, но в фильме это звучит лучше. Каждый поёт по своему, и передает эмоции по сво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1835280" y="404640"/>
            <a:ext cx="5383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Карнавал" - один из моих самых любимых советских фильмов, который я смотрела уже много раз и он мне не надоедает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м играют замечательные советские актеры: Юрий Яковлев, Ирина Муравьева, Клара Лучко, Александр Абдулов и другие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фильм о надежде, о том, какая несправедливая и трудная порою может быть жизнь, о том, что чужой человек может стать родным, а родной - чужим..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C:\Users\АУП\Desktop\к\karnaval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C:\Users\АУП\Desktop\к\157000.jpg"/>
          <p:cNvPicPr/>
          <p:nvPr/>
        </p:nvPicPr>
        <p:blipFill>
          <a:blip r:embed="rId1"/>
          <a:stretch/>
        </p:blipFill>
        <p:spPr>
          <a:xfrm>
            <a:off x="1460520" y="836640"/>
            <a:ext cx="6481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АУП\Desktop\к\f4b46bfc5358.jpg"/>
          <p:cNvPicPr/>
          <p:nvPr/>
        </p:nvPicPr>
        <p:blipFill>
          <a:blip r:embed="rId1"/>
          <a:stretch/>
        </p:blipFill>
        <p:spPr>
          <a:xfrm>
            <a:off x="1219320" y="990720"/>
            <a:ext cx="67053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Users\АУП\Desktop\к\i423Q6JHU.jpg"/>
          <p:cNvPicPr/>
          <p:nvPr/>
        </p:nvPicPr>
        <p:blipFill>
          <a:blip r:embed="rId1"/>
          <a:stretch/>
        </p:blipFill>
        <p:spPr>
          <a:xfrm>
            <a:off x="1295280" y="990720"/>
            <a:ext cx="65534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1042920" y="206064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268200" y="404640"/>
            <a:ext cx="8713800" cy="55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южет</a:t>
            </a:r>
            <a:r>
              <a:rPr b="1" lang="ru-RU" sz="1800" spc="-1" strike="noStrike">
                <a:solidFill>
                  <a:srgbClr val="555555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большом южном городе со своей мамой живёт молодая девушка Нина Соломатина. Её отец давно бросил свою тогда ещё маленькую дочь и переехал в Москву. Мечтающая «выучиться на артистку» Нина приезжает в Москву, но проваливается на вступительных экзаменах в театральное училище. Решив попробовать поступить в следующем году, Нина временно поселяется с отцом и его семьёй. Стремясь самостоятельно обеспечивать себя, она идёт работать, но из-за различных казусов нигде не может удержаться надолго. В личной жизни Нина также терпит фиаско — студент-москвич Никита весьма быстро бросает её ради нового увлечения. В итоге Нина начинает понимать, что большой город — это совсем не вечный карнавал, который она нарисовала в своем воображении, и вместо того, чтобы в итоге покорить мир, главная героиня возвращается к себе домой — заботиться о заболевшей матер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ьм заканчивается сценой, в которой Нина Соломатина предстает знаменитой певицей, выступающей при полном зале. Долгое время для зрителя оставалось загадкой, что это значит: вернувшаяся домой Нина вновь представляет себя той, кем ей не удалось стать, или же она всё-таки снова поехала в Москву и стала артисткой. В документальной передаче о фильме сообщили, что по замыслу режиссёра Татьяны Лиозновой мечта Нины исполнила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2"/>
          <p:cNvSpPr/>
          <p:nvPr/>
        </p:nvSpPr>
        <p:spPr>
          <a:xfrm>
            <a:off x="395280" y="260280"/>
            <a:ext cx="7542360" cy="57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ина Муравьёва —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на Солома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й Яковлев —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хаил Соломатин, отец Н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ра Лучко —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озефина Викторовна, жена Михаила Солома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 Абдулов —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а Васильева —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 Ники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втина Румянцева —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 Н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атерина Жемчужная—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 Михайлов —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ми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дия Смирнова —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едатель коми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ентина Титова —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ртирная хозяй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наида Воркуль —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наида, мать Солома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дрей Гусев —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ющий абитуриент с кефи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на Максимова —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тительница ломбар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4"/>
          <p:cNvSpPr/>
          <p:nvPr/>
        </p:nvSpPr>
        <p:spPr>
          <a:xfrm>
            <a:off x="250920" y="387360"/>
            <a:ext cx="6319800" cy="49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ьга Блок-Миримская —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ковая женщина из фильма в кинотеат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ячеслав Баранов —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дим Андреев —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дим Артур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имир Балашов —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лен приёмной коми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имир Смирнов —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ед, который принёс стол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ман Монастырский —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ма, единокровный брат Нины по от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гарита Жарова —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вдия Козлёнкова —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а в мет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толий Пидгородецкий —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итур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ара Яренко —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е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ов Беленький —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Users\АУП\Desktop\к\photo52.jpg"/>
          <p:cNvPicPr/>
          <p:nvPr/>
        </p:nvPicPr>
        <p:blipFill>
          <a:blip r:embed="rId2"/>
          <a:stretch/>
        </p:blipFill>
        <p:spPr>
          <a:xfrm>
            <a:off x="755640" y="404640"/>
            <a:ext cx="770400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684360" y="480960"/>
            <a:ext cx="617364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ъёмочная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сценария: Анна Родионова, Татьяна Лиознова (участ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иссёр: Татьяна Лиоз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ор: Пётр Ката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озитор: Максим Дунае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альный ансамбль «Фестиваль», под управлением Максима Дунаевского (дирижёр — Дмитрий Атовмя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ник-постановщик: Борис Дуленков, Владимир Постер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ник: Мариам Быхов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итель песен: Жанна Рождествен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АУП\Desktop\к\iFHL848S2.jpg"/>
          <p:cNvPicPr/>
          <p:nvPr/>
        </p:nvPicPr>
        <p:blipFill>
          <a:blip r:embed="rId1"/>
          <a:stretch/>
        </p:blipFill>
        <p:spPr>
          <a:xfrm>
            <a:off x="1000080" y="909720"/>
            <a:ext cx="714384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250920" y="476280"/>
            <a:ext cx="8497800" cy="18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SzPct val="5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ни мне, позвон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SzPct val="5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не меркнут огни ваших радостных гл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SzPct val="5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, жизн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Газизуллина</cp:lastModifiedBy>
  <dcterms:modified xsi:type="dcterms:W3CDTF">2017-03-15T17:08:37Z</dcterms:modified>
  <cp:revision>549</cp:revision>
  <dc:subject/>
  <dc:title>Diapositiva 1</dc:title>
</cp:coreProperties>
</file>