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19.jpeg" ContentType="image/jpeg"/>
  <Override PartName="/ppt/media/image25.png" ContentType="image/png"/>
  <Override PartName="/ppt/media/image5.jpeg" ContentType="image/jpeg"/>
  <Override PartName="/ppt/media/image26.jpeg" ContentType="image/jpeg"/>
  <Override PartName="/ppt/media/image32.jpeg" ContentType="image/jpeg"/>
  <Override PartName="/ppt/media/image35.png" ContentType="image/png"/>
  <Override PartName="/ppt/media/image8.jpeg" ContentType="image/jpeg"/>
  <Override PartName="/ppt/media/image30.png" ContentType="image/png"/>
  <Override PartName="/ppt/media/image27.jpeg" ContentType="image/jpeg"/>
  <Override PartName="/ppt/media/image9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34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36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5775-81B1-470A-9535-A937FD904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168A-1E2A-44D1-844C-CEBBDC71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623C-03E2-4961-B08D-3134903CD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5AE6-38A1-43D5-BD0A-E84801F1E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1206-FBEC-429C-A898-867D92D4F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E5DE-0EA5-4126-AFE8-6015253B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FE05C-4B7F-47B2-93DE-BD68C1F7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CAD0-D790-4F93-8250-F38D04F7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4B42-70B0-48EB-9E9C-B9A18BCA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FD9B9-4DA5-438E-9BA8-82D92116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9DED-A0F9-410A-8A41-84BD6402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4E6B-F51A-4306-89FF-37037CA7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0D0C-BD7C-4BA1-B667-5E9676A1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3B9C-FAA9-46F0-B331-C4AD1237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CFF7-5550-4846-ADB5-39C4D3DC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E390-F0CB-42F2-9A22-1E2EEA347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1143-06F9-47AB-8A85-F4D6C8BF1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B3C4B-7125-4A8A-9832-F68DD1EB9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D4977-A54D-4720-A50D-DF1B7A28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35A88-6AFB-49F6-9B50-6CB98BBD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B1158-37CB-41EF-8386-9C193B4D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1F350-19FF-4C2A-B7D8-DAA9BC97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5728-E920-4661-B11E-9946CEEB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EBA75-9A83-444D-9679-E47C5999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EF150-8BA6-4FE6-B6CC-172FA78B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BFD70-FB1B-4061-AC3F-2BA12DC7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94051-44D6-4E14-8BEC-A1C5A528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A3368-3CF3-4550-B50C-06C914F1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219F2-2E7A-40BA-B814-C019CD665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3A485-77F2-49F0-9BB6-FEB40AB18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73C71-476C-4D21-8482-794331577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3105D-2656-49FD-9903-B218EA2A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2616F-0A5A-476D-8880-38CAB080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BA72-2775-46BE-AFF9-948EF1C1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9676F-8942-4AA7-BC27-1A12D303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BA84A-BAB6-4A31-B001-84DCA08B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03C1B-0E70-4A7D-9F06-D4A2520F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13A91-AF99-4F2E-97FA-F4286904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7A1D7-9D84-491B-804E-4C02701F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2F5FD-2101-4EC2-A956-683EF965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27E3E-9EF6-4775-A8F7-D6CA8333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A2D40-C223-41F9-8214-4A0EFF0A5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28700-59C7-4347-AD59-E3E7E9049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D63F2-AF0A-4DC1-8FE1-D21105A74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52EB-774D-4C00-A205-CFB7E2A3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A1ADA-02E3-4885-A2AD-A9653599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5A973-52EF-4DD4-A1CE-4A6080DD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5AD0C-4103-4539-9CB5-C0BF8069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6CDC7-D825-499E-AC2D-73DAE6CC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B3D8A-10B0-41AA-A491-562A9C33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8B2E5-7AB0-4FB4-A0C7-48E2BF2E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E9024-D3AB-4A4D-B131-06C6E6A4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5C5BA-6C01-4D77-9F74-18E6FB52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4B6B4-0F8A-4DB7-B214-0783FB0F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1108F-A1B7-4A48-AE40-F14F79EC5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3DE0-9052-483C-8428-BE88BD05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95DAD-A04E-44BE-8B8A-AC08085AC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93F2B-C58B-4BB5-81A1-D68E466FB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E1B92-696D-4337-BE9D-3B1EED61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17D9C-E6F2-451B-80D8-15172934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F5143-5C88-405C-8125-FAB749E2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7CD0E-214A-40BE-862F-D13C59DE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EF4B5-E9A7-4D4A-9692-0EBE61A3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92B03-DB26-4DE9-BC04-0D940622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76DC2-2CD6-431E-BD29-C6B60FDE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83254-F16B-4BDF-BAA6-BA8C0DCF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C2EC-5D4B-4DAB-B52E-5CA32D53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71660-2F8A-4DC8-B840-C94B04C0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41CD5-7A0B-41AE-8601-F9DF07375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678D8-29EB-4EB8-AFE4-CE78CB8E9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3F10A-F86F-4D95-A0F2-F611AEA93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BE232-29B7-4147-9ABB-29913BD5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2E7E0-9457-4607-8573-38E8C5F8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A22F4-10CB-4F0B-83C1-6343CC1A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8667B-E3E2-4A79-BABA-7D437AED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09E32-1CDA-43FC-8302-5FB04732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4EEE9-6941-4216-85C7-3504667E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C057-58CB-4959-9A5F-DDB75B03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26284-157A-453C-98D2-1BAD250F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279EF-B75D-4698-B318-8D8C8648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1B829-01EA-431B-B1F2-0DADCF70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D29CD-A20D-4498-B407-A988D376B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43250-6603-405B-859A-DCC93EEE8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CCE9A-0670-4A44-A1FC-2A2B1C206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B75DE-8669-471C-A630-D7184281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5CD30-68AC-498D-8670-FA85456E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771CE-CC4B-4CE9-9CF8-338D236F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36726-14CA-4DCB-A7B6-47E3DEF7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7BCA-7A5E-41F8-8359-3F9F439B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037B1-8B5B-4709-BD61-0C4D54B1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3D925-729A-4181-B0FE-3E9E956A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5858F-1254-4363-BCE2-117CEA6F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C3C68-CBA6-4DF6-A89C-90733021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91A93-D849-4F41-BA67-3F912DE4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F95D5-F423-411B-BB49-5CBE579BA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B5AFA-666D-42CD-917D-2AF3A2FDE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DA3F-EE5D-4A00-A23B-2C474AD2944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D9D6-6C91-429A-BDCE-EC7F1604893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21D5-1A70-4C07-8A9D-C1BC04528C4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8BE1-3E3B-4952-8FEB-B05FBA32B80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26AB-E418-417E-B185-D31F754C781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9D70-4E84-44C7-8EA5-C72B2307C31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098F-7D8E-48F9-B273-23F35AF53FF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6780-5E2B-4A90-8354-07DA4B75F11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1279440" y="2505240"/>
            <a:ext cx="7010640" cy="2292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C:\Documents and Settings\Admin\Рабочий стол\Музыкальные инструменты\!.jpg"/>
          <p:cNvPicPr/>
          <p:nvPr/>
        </p:nvPicPr>
        <p:blipFill>
          <a:blip r:embed="rId2"/>
          <a:stretch/>
        </p:blipFill>
        <p:spPr>
          <a:xfrm>
            <a:off x="6715080" y="428760"/>
            <a:ext cx="16430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ервые упоминания о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гармони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относятся к концу XIX века. Региональное название инструмента самое различное: "русская" или "гармонь русского строя", тальянка (тальян-гармун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Баян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– самая совершенная гармоника с хроматическим звукорядом в правой клавиатуре и хроматическим басо-аккордовым сопровождением в левой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Заголовок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C:\Documents and Settings\Admin\Рабочий стол\Музыкальные инструменты\баян.jpg"/>
          <p:cNvPicPr/>
          <p:nvPr/>
        </p:nvPicPr>
        <p:blipFill>
          <a:blip r:embed="rId1"/>
          <a:stretch/>
        </p:blipFill>
        <p:spPr>
          <a:xfrm>
            <a:off x="2571840" y="714240"/>
            <a:ext cx="414324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" descr="C:\Documents and Settings\Admin\Рабочий стол\Музыкальные инструменты\i.jpg"/>
          <p:cNvPicPr/>
          <p:nvPr/>
        </p:nvPicPr>
        <p:blipFill>
          <a:blip r:embed="rId2"/>
          <a:stretch/>
        </p:blipFill>
        <p:spPr>
          <a:xfrm>
            <a:off x="2714760" y="2214720"/>
            <a:ext cx="5467320" cy="4265280"/>
          </a:xfrm>
          <a:prstGeom prst="rect">
            <a:avLst/>
          </a:prstGeom>
          <a:ln w="0">
            <a:noFill/>
          </a:ln>
        </p:spPr>
      </p:pic>
      <p:sp>
        <p:nvSpPr>
          <p:cNvPr id="390" name="TextBox 3"/>
          <p:cNvSpPr/>
          <p:nvPr/>
        </p:nvSpPr>
        <p:spPr>
          <a:xfrm>
            <a:off x="3357720" y="1643040"/>
            <a:ext cx="307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Кубы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Заголовок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461440" cy="13413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C:\Documents and Settings\Admin\Рабочий стол\Музыкальные инструменты\19.jpg"/>
          <p:cNvPicPr/>
          <p:nvPr/>
        </p:nvPicPr>
        <p:blipFill>
          <a:blip r:embed="rId2"/>
          <a:stretch/>
        </p:blipFill>
        <p:spPr>
          <a:xfrm>
            <a:off x="785880" y="2000160"/>
            <a:ext cx="2595600" cy="38941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C:\Documents and Settings\Admin\Рабочий стол\Музыкальные инструменты\ovchin.jpg"/>
          <p:cNvPicPr/>
          <p:nvPr/>
        </p:nvPicPr>
        <p:blipFill>
          <a:blip r:embed="rId3"/>
          <a:stretch/>
        </p:blipFill>
        <p:spPr>
          <a:xfrm>
            <a:off x="4071960" y="1928880"/>
            <a:ext cx="46512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зготавливается из дерева (сосны, ели, клена, чинары, березы, кедра, ореха). У башкир распространено два типа думбыры: альтовая и теноровая. Длина инструмента колеблется от 8ОО-13ОО мм. Он имеет три металлические струны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C:\Documents and Settings\Admin\Рабочий стол\Музыкальные инструменты\думбыра.jpg"/>
          <p:cNvPicPr/>
          <p:nvPr/>
        </p:nvPicPr>
        <p:blipFill>
          <a:blip r:embed="rId1"/>
          <a:stretch/>
        </p:blipFill>
        <p:spPr>
          <a:xfrm>
            <a:off x="1000080" y="785880"/>
            <a:ext cx="2297160" cy="31622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" descr="C:\Documents and Settings\Admin\Рабочий стол\Музыкальные инструменты\думб.jpg"/>
          <p:cNvPicPr/>
          <p:nvPr/>
        </p:nvPicPr>
        <p:blipFill>
          <a:blip r:embed="rId2"/>
          <a:stretch/>
        </p:blipFill>
        <p:spPr>
          <a:xfrm>
            <a:off x="4000680" y="642960"/>
            <a:ext cx="4286160" cy="30002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C:\Documents and Settings\Admin\Рабочий стол\Музыкальные инструменты\думбр.jpg"/>
          <p:cNvPicPr/>
          <p:nvPr/>
        </p:nvPicPr>
        <p:blipFill>
          <a:blip r:embed="rId3"/>
          <a:stretch/>
        </p:blipFill>
        <p:spPr>
          <a:xfrm>
            <a:off x="3429000" y="4000680"/>
            <a:ext cx="34066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Ударные инструменты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огласно многовековой традиции башкиры в качестве ударных использовали бытовые предметы: подносы, ведра, щипцы и др. для аккомпанемента к пению и танцам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относится к разновидности мембранофонов. Это ударный инструмент типа бубна. Особенности его конструкции следующие: по краю круглого деревянного с натянутой перепонкой обруча (высота около 19О мм, диаметр 35О мм), закреплены двойные серебряные монеты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C:\Documents and Settings\Admin\Рабочий стол\Музыкальные инструменты\дунгур.jpg"/>
          <p:cNvPicPr/>
          <p:nvPr/>
        </p:nvPicPr>
        <p:blipFill>
          <a:blip r:embed="rId2"/>
          <a:stretch/>
        </p:blipFill>
        <p:spPr>
          <a:xfrm>
            <a:off x="2500200" y="2143080"/>
            <a:ext cx="340992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" descr="C:\Documents and Settings\Admin\Рабочий стол\Музыкальные инструменты\каравн һарай.jpg"/>
          <p:cNvPicPr/>
          <p:nvPr/>
        </p:nvPicPr>
        <p:blipFill>
          <a:blip r:embed="rId2"/>
          <a:stretch/>
        </p:blipFill>
        <p:spPr>
          <a:xfrm>
            <a:off x="1143000" y="1571760"/>
            <a:ext cx="69660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Заголовок 1" descr=""/>
          <p:cNvPicPr/>
          <p:nvPr/>
        </p:nvPicPr>
        <p:blipFill>
          <a:blip r:embed="rId1"/>
          <a:stretch/>
        </p:blipFill>
        <p:spPr>
          <a:xfrm>
            <a:off x="493560" y="566640"/>
            <a:ext cx="8236080" cy="3011760"/>
          </a:xfrm>
          <a:prstGeom prst="rect">
            <a:avLst/>
          </a:prstGeom>
          <a:ln w="0">
            <a:noFill/>
          </a:ln>
        </p:spPr>
      </p:pic>
      <p:sp>
        <p:nvSpPr>
          <p:cNvPr id="373" name="Прямоугольник 2"/>
          <p:cNvSpPr/>
          <p:nvPr/>
        </p:nvSpPr>
        <p:spPr>
          <a:xfrm>
            <a:off x="3234600" y="3571920"/>
            <a:ext cx="237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5400" spc="-1" strike="noStrike">
                <a:solidFill>
                  <a:srgbClr val="7030a0"/>
                </a:solidFill>
                <a:latin typeface="a_Helver Bashkir"/>
              </a:rPr>
              <a:t>Кура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Особое место среди эстрадных коллективов Башкирской государственной филармонии занимает лауреат всероссийских и международных конкурсов фольклорно-эстрадная группа 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«Караван-Сарай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», вот уже 15 лет пропагандирующая национальную музыкальную культуру в Республике Башкортостан и далеко за ее пределами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Заголовок 2" descr=""/>
          <p:cNvPicPr/>
          <p:nvPr/>
        </p:nvPicPr>
        <p:blipFill>
          <a:blip r:embed="rId1"/>
          <a:stretch/>
        </p:blipFill>
        <p:spPr>
          <a:xfrm>
            <a:off x="450720" y="55440"/>
            <a:ext cx="82425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285840" y="1481040"/>
            <a:ext cx="840096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егодня фольклорно-эстрадная группа «Караван-Сарай» является визитной карточкой национальной музыкальной культуры Республики Башкортостан, в составе которой работают такие мастера сцены как заслуженный артист РБ и художественный руководитель ансамбля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Вильдан Яруллин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(вокал), народный артист РБ, лауреат государственной молодежной премии им. Ш. Бабича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Расуль Карабулатов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(курай, вокал, горловое пение), заслуженные артисты РБ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Махмут Надыршин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(гитара, думбыра, вокал),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Олег Жданов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(синтезатор),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Анатолий Трофимов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(ударные инструменты), также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Альберт Нигматуллин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(бас-гитара),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Радиф Зарипов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(вокал),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Салават Юлдыбаев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(баян),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Альмир Гафуров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(гитара),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Юлия Чигвинцева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и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Рафаэль Сагитов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(танец)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Заголовок 2" descr=""/>
          <p:cNvPicPr/>
          <p:nvPr/>
        </p:nvPicPr>
        <p:blipFill>
          <a:blip r:embed="rId1"/>
          <a:stretch/>
        </p:blipFill>
        <p:spPr>
          <a:xfrm>
            <a:off x="291960" y="60480"/>
            <a:ext cx="854712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C:\Documents and Settings\Admin\Рабочий стол\Музыкальные инструменты\курай!.jpg"/>
          <p:cNvPicPr/>
          <p:nvPr/>
        </p:nvPicPr>
        <p:blipFill>
          <a:blip r:embed="rId1"/>
          <a:stretch/>
        </p:blipFill>
        <p:spPr>
          <a:xfrm>
            <a:off x="928800" y="1285920"/>
            <a:ext cx="3071880" cy="46940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C:\Documents and Settings\Admin\Рабочий стол\Музыкальные инструменты\курайө.jpg"/>
          <p:cNvPicPr/>
          <p:nvPr/>
        </p:nvPicPr>
        <p:blipFill>
          <a:blip r:embed="rId2"/>
          <a:stretch/>
        </p:blipFill>
        <p:spPr>
          <a:xfrm>
            <a:off x="4500720" y="642960"/>
            <a:ext cx="39193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4" descr="C:\Documents and Settings\Admin\Рабочий стол\Музыкальные инструменты\курай.jpg"/>
          <p:cNvPicPr/>
          <p:nvPr/>
        </p:nvPicPr>
        <p:blipFill>
          <a:blip r:embed="rId1"/>
          <a:stretch/>
        </p:blipFill>
        <p:spPr>
          <a:xfrm>
            <a:off x="2928960" y="1071720"/>
            <a:ext cx="364968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всемирно известный инструменталист-виртуоз на башкирском народном духовом инструменте курае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6630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C:\Documents and Settings\Admin\Рабочий стол\Музыкальные инструменты\a_aitkulov2.JPG"/>
          <p:cNvPicPr/>
          <p:nvPr/>
        </p:nvPicPr>
        <p:blipFill>
          <a:blip r:embed="rId2"/>
          <a:stretch/>
        </p:blipFill>
        <p:spPr>
          <a:xfrm>
            <a:off x="1714680" y="1857240"/>
            <a:ext cx="650700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285840" y="428760"/>
            <a:ext cx="840096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Lucida Sans Unicode"/>
              </a:rPr>
              <a:t>Хорнай (Сорнай)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 – индекс  – труба (возможно – рог) с мундштуком на которой можно было извлекать звуки натурального звукоряда;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Lucida Sans Unicode"/>
              </a:rPr>
              <a:t>Борго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 – предположительно та же группа инструментов, но изготовленная из дерева;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C:\Documents and Settings\Admin\Рабочий стол\Музыкальные инструменты\сорнай.jpg"/>
          <p:cNvPicPr/>
          <p:nvPr/>
        </p:nvPicPr>
        <p:blipFill>
          <a:blip r:embed="rId2"/>
          <a:stretch/>
        </p:blipFill>
        <p:spPr>
          <a:xfrm>
            <a:off x="2143080" y="2428920"/>
            <a:ext cx="5461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571680"/>
            <a:ext cx="8258040" cy="54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Камыш-курай - </a:t>
            </a: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национальная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разновидность флейты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БОРГО</a:t>
            </a: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 - это духовой сигнальный инструмент, сделанный из дерева без пальцевых отверстий, имеющий мундштук.   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Подробных описаний внешнего вида этих инструментов и их репертуара пока не найдено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juY76tg22</cp:lastModifiedBy>
  <dcterms:modified xsi:type="dcterms:W3CDTF">2015-10-28T12:13:33Z</dcterms:modified>
  <cp:revision>22</cp:revision>
  <dc:subject/>
  <dc:title>Башкирские музыкальные инструменты</dc:title>
</cp:coreProperties>
</file>