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42.wmf" ContentType="image/x-wmf"/>
  <Override PartName="/ppt/media/image1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41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268-63C9-4FAA-AC4D-05CFBFF3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D3D-CA09-4F8F-8881-1F8219B1305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130-9672-4E82-95D2-014EEB35B54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1FB-5F57-4848-ABCD-2E806508E1F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ssian7.ru/2014/02/7-tajn-petra-velikogo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ssian7.ru/2014/02/7-tajn-petra-velikogo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omop.su/images/65/Arnould_Suharev_Tower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pandia.ru/text/category/obrazovatelmznaya_deyatelmznostmz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www.proza.ru%2Fpics%2F2009%2F06%2F07%2F182.jpg&amp;text=&#1085;&#1072;&#1095;&#1072;&#1083;&#1086;%20&#1086;&#1073;&#1088;&#1072;&#1079;&#1086;&#1074;&#1072;&#1085;&#1080;&#1103;%20&#1085;&#1072;%20&#1088;&#1091;&#1089;&#1080;&amp;noreask=1&amp;pos=0&amp;lr=10727&amp;rpt=simage&amp;nojs=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source=wiz&amp;fp=0&amp;img_url=http%3A%2F%2Fwww.zavtra.ru%2Fmedia%2Fuseruploads_new%2Falice%2F270613-shamba-1.jpg&amp;text=&#1085;&#1072;&#1095;&#1072;&#1083;&#1086;%20&#1086;&#1073;&#1088;&#1072;&#1079;&#1086;&#1074;&#1072;&#1085;&#1080;&#1103;%20&#1085;&#1072;%20&#1088;&#1091;&#1089;&#1080;&amp;noreask=1&amp;pos=27&amp;lr=10727&amp;rpt=simage&amp;nojs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source=wiz&amp;fp=0&amp;img_url=http%3A%2F%2Fwww.hist.msu.ru%2FScience%2FHisUni%2FImages%2FPans.jpg&amp;text=&#1085;&#1072;&#1095;&#1072;&#1083;&#1086;%20&#1086;&#1073;&#1088;&#1072;&#1079;&#1086;&#1074;&#1072;&#1085;&#1080;&#1103;%20&#1085;&#1072;%20&#1088;&#1091;&#1089;&#1080;&amp;noreask=1&amp;pos=15&amp;lr=10727&amp;rpt=simage&amp;nojs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egorggymnasia.edumsko.ru/images/users-files/egorggymnasia/foto_shkoli/oktyabr_skaya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egorggymnasia.edumsko.ru/images/users-files/egorggymnasia/foto_shkoli/gimnaziya.jpg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Школа будущего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Абдулина Элиза Венеровна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Российские школы при </a:t>
            </a:r>
            <a:br>
              <a:rPr sz="4400"/>
            </a:b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Петре Великом (</a:t>
            </a: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I</a:t>
            </a: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 пол.</a:t>
            </a: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XVIII</a:t>
            </a: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 в.)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4028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60000"/>
                </a:solidFill>
                <a:uFillTx/>
                <a:latin typeface="Microsoft Sans Serif"/>
              </a:rPr>
              <a:t>Благодаря Петру в России возникла система образования.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0000"/>
                </a:solidFill>
                <a:latin typeface="Microsoft Sans Serif"/>
              </a:rPr>
              <a:t>Изучались предметы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0000"/>
                </a:solidFill>
                <a:latin typeface="Microsoft Sans Serif"/>
              </a:rPr>
              <a:t>В гимназии - русский язык, латынь, арифметика, геометрия, география, краткая философия и иностранные языки; в гимназии для разночинцев учили главным образом искусствам, музыке, пению, живописи, преподавали и технические науки.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6" name="Picture 5" descr="101817696_large_PetraIPolDelarosh1838e1325509319153-663x5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3582720" cy="36576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Школа математических и навигационных наук (Москва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22096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В школу велено было принимать детей от </a:t>
            </a:r>
            <a:r>
              <a:rPr b="1" lang="ru-RU" sz="1600" spc="-1" strike="noStrike">
                <a:solidFill>
                  <a:srgbClr val="460000"/>
                </a:solidFill>
                <a:latin typeface="Microsoft Sans Serif"/>
              </a:rPr>
              <a:t>11 до 23 лет</a:t>
            </a: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.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100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Учились в таких школах от </a:t>
            </a:r>
            <a:r>
              <a:rPr b="1" lang="ru-RU" sz="1600" spc="-1" strike="noStrike">
                <a:solidFill>
                  <a:srgbClr val="460000"/>
                </a:solidFill>
                <a:latin typeface="Microsoft Sans Serif"/>
              </a:rPr>
              <a:t>10 до 15 лет</a:t>
            </a: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Обучение делилось на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- </a:t>
            </a:r>
            <a:r>
              <a:rPr b="1" lang="ru-RU" sz="1600" spc="-1" strike="noStrike">
                <a:solidFill>
                  <a:srgbClr val="460000"/>
                </a:solidFill>
                <a:latin typeface="Microsoft Sans Serif"/>
              </a:rPr>
              <a:t>Нижнюю школу</a:t>
            </a: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 — младшие классы, обучение чтению и письму, арифметике, геометрии, тригонометрии.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- </a:t>
            </a:r>
            <a:r>
              <a:rPr b="1" lang="ru-RU" sz="1600" spc="-1" strike="noStrike">
                <a:solidFill>
                  <a:srgbClr val="460000"/>
                </a:solidFill>
                <a:latin typeface="Microsoft Sans Serif"/>
              </a:rPr>
              <a:t>Верхнюю школу</a:t>
            </a:r>
            <a:r>
              <a:rPr b="0" lang="ru-RU" sz="1600" spc="-1" strike="noStrike">
                <a:solidFill>
                  <a:srgbClr val="460000"/>
                </a:solidFill>
                <a:latin typeface="Microsoft Sans Serif"/>
              </a:rPr>
              <a:t> — старшие классы, обучение немецкому языку, математике, морским, инженерным и артиллерийским наукам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9" name="Picture 5" descr="101817696_large_PetraIPolDelarosh1838e1325509319153-663x5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152280"/>
            <a:ext cx="1476360" cy="11797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20" name="Picture 7" descr="Arnould_Suharev_Tow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4267080"/>
            <a:ext cx="3705120" cy="25909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Российские школы при </a:t>
            </a:r>
            <a:br>
              <a:rPr sz="3200"/>
            </a:b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Екатерине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II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(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II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пол.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XVIII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в.)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Согласно уставу, учреждались два типа училищ – малые и главные, кроме них существовали приходские училища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Малые училища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принимали на два года обучения. Преподавалось письмо, нумерация, рисование, чистописание – то, что должен знать грамотный человек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Главные училища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подготавливали на протяжении пяти лет по гораздо более обширной, многопредметной программе – курсы естественно-научных дисциплин, языки, архитектура и другие искусства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3" name="Picture 4" descr="Екатерина II Алексеевна"/>
          <p:cNvPicPr/>
          <p:nvPr/>
        </p:nvPicPr>
        <p:blipFill>
          <a:blip r:embed="rId1"/>
          <a:stretch/>
        </p:blipFill>
        <p:spPr>
          <a:xfrm>
            <a:off x="7467480" y="1143000"/>
            <a:ext cx="1549440" cy="152388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Смольный институт благородных девиц (Санкт - Петербург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0000"/>
                </a:solidFill>
                <a:latin typeface="Microsoft Sans Serif"/>
              </a:rPr>
              <a:t>При Екатерине появилось первое в России учебное заведение для девочек – Смольный институт благородных девиц (Санкт – Петербург, 1764 год)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6" name="Рисунок 3" descr="smolnyi.jpg"/>
          <p:cNvPicPr/>
          <p:nvPr/>
        </p:nvPicPr>
        <p:blipFill>
          <a:blip r:embed="rId1"/>
          <a:stretch/>
        </p:blipFill>
        <p:spPr>
          <a:xfrm>
            <a:off x="838080" y="3733920"/>
            <a:ext cx="3181320" cy="2320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1mkougmcvu.jpg"/>
          <p:cNvPicPr/>
          <p:nvPr/>
        </p:nvPicPr>
        <p:blipFill>
          <a:blip r:embed="rId2"/>
          <a:stretch/>
        </p:blipFill>
        <p:spPr>
          <a:xfrm>
            <a:off x="5334120" y="37339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оссийские школы при 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Александре 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I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(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I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пол.</a:t>
            </a: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XI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Х в.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25"/>
              </a:spcBef>
              <a:buClr>
                <a:srgbClr val="7f7f7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Microsoft Sans Serif"/>
              </a:rPr>
              <a:t>В годы царствования Александра I (1801 – 1825) школьная политика прошла два различных этапа. На первом (до 1815 г.) правительство намеревалось провести реформы в духе просвещения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1125"/>
              </a:spcBef>
              <a:buClr>
                <a:srgbClr val="7f7f7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Microsoft Sans Serif"/>
              </a:rPr>
              <a:t>При Александре I впервые была создана школьная система.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1125"/>
              </a:spcBef>
              <a:buClr>
                <a:srgbClr val="7f7f7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Microsoft Sans Serif"/>
              </a:rPr>
              <a:t>Вводились три типа школ:</a:t>
            </a:r>
            <a:r>
              <a:rPr b="0" lang="ru-RU" sz="1800" spc="-1" strike="noStrike">
                <a:solidFill>
                  <a:srgbClr val="7f7f7f"/>
                </a:solidFill>
                <a:latin typeface="Microsoft Sans Serif"/>
              </a:rPr>
              <a:t>. 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0" name="Picture 8" descr="300px-Ucheniki_prikhodskoi_shkoly"/>
          <p:cNvPicPr/>
          <p:nvPr/>
        </p:nvPicPr>
        <p:blipFill>
          <a:blip r:embed="rId1"/>
          <a:stretch/>
        </p:blipFill>
        <p:spPr>
          <a:xfrm>
            <a:off x="4724280" y="4114800"/>
            <a:ext cx="3786480" cy="23288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31" name="Picture 6" descr="img1"/>
          <p:cNvPicPr/>
          <p:nvPr/>
        </p:nvPicPr>
        <p:blipFill>
          <a:blip r:embed="rId2"/>
          <a:stretch/>
        </p:blipFill>
        <p:spPr>
          <a:xfrm>
            <a:off x="6629400" y="0"/>
            <a:ext cx="2330280" cy="22860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32" name="Picture 6" descr="img1"/>
          <p:cNvPicPr/>
          <p:nvPr/>
        </p:nvPicPr>
        <p:blipFill>
          <a:blip r:embed="rId3"/>
          <a:stretch/>
        </p:blipFill>
        <p:spPr>
          <a:xfrm>
            <a:off x="8101080" y="533520"/>
            <a:ext cx="858600" cy="11937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Российские школы при </a:t>
            </a:r>
            <a:br>
              <a:rPr sz="2800"/>
            </a:b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иколае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I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 (Х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I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Х век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34" name="Picture 8" descr="Школьная форма в России: от Николая I до В.В.Путина"/>
          <p:cNvPicPr/>
          <p:nvPr/>
        </p:nvPicPr>
        <p:blipFill>
          <a:blip r:embed="rId1"/>
          <a:stretch/>
        </p:blipFill>
        <p:spPr>
          <a:xfrm>
            <a:off x="5029200" y="2666880"/>
            <a:ext cx="3894120" cy="34434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35" name="Picture 5" descr="Николай I"/>
          <p:cNvPicPr/>
          <p:nvPr/>
        </p:nvPicPr>
        <p:blipFill>
          <a:blip r:embed="rId2"/>
          <a:stretch/>
        </p:blipFill>
        <p:spPr>
          <a:xfrm>
            <a:off x="6400800" y="1219320"/>
            <a:ext cx="922320" cy="12240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36" name="Прямоугольник 5"/>
          <p:cNvSpPr/>
          <p:nvPr/>
        </p:nvSpPr>
        <p:spPr>
          <a:xfrm>
            <a:off x="22860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При Николае I школы стали доступными </a:t>
            </a:r>
            <a:r>
              <a:rPr b="1" lang="ru-RU" sz="1800" spc="-1" strike="noStrike">
                <a:solidFill>
                  <a:srgbClr val="460000"/>
                </a:solidFill>
                <a:latin typeface="Arial"/>
              </a:rPr>
              <a:t>не</a:t>
            </a: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 для всех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«Никто не должен получать образование выше своего звания».</a:t>
            </a:r>
            <a:br>
              <a:rPr sz="1800"/>
            </a:b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Благородные пансионы и частные школы, были преобразованы или закрыты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Была введена плата за обучение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Главной стала дисциплина среди студент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Студенты были одеты в </a:t>
            </a:r>
            <a:r>
              <a:rPr b="1" lang="ru-RU" sz="1800" spc="-1" strike="noStrike">
                <a:solidFill>
                  <a:srgbClr val="460000"/>
                </a:solidFill>
                <a:latin typeface="Arial"/>
              </a:rPr>
              <a:t>форму</a:t>
            </a: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, даже прическа регламентировалась</a:t>
            </a:r>
            <a:r>
              <a:rPr b="0" lang="ru-RU" sz="2400" spc="-1" strike="noStrike">
                <a:solidFill>
                  <a:srgbClr val="46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Школа ХХ век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55680" y="1925640"/>
            <a:ext cx="8353440" cy="307080"/>
          </a:xfrm>
          <a:prstGeom prst="rect">
            <a:avLst/>
          </a:prstGeom>
          <a:solidFill>
            <a:srgbClr val="c08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Arial"/>
              </a:rPr>
              <a:t>10е гг.</a:t>
            </a:r>
            <a:r>
              <a:rPr b="0" lang="ru-RU" sz="1400" spc="-1" strike="noStrike">
                <a:solidFill>
                  <a:srgbClr val="460000"/>
                </a:solidFill>
                <a:latin typeface="Arial"/>
              </a:rPr>
              <a:t> – были гимназии (платные) и церковно-приходские школы (2-3 года)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71680" y="2428920"/>
            <a:ext cx="8137440" cy="307080"/>
          </a:xfrm>
          <a:prstGeom prst="rect">
            <a:avLst/>
          </a:prstGeom>
          <a:solidFill>
            <a:srgbClr val="c08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Arial"/>
              </a:rPr>
              <a:t>20е гг.</a:t>
            </a:r>
            <a:r>
              <a:rPr b="0" lang="ru-RU" sz="1400" spc="-1" strike="noStrike">
                <a:solidFill>
                  <a:srgbClr val="460000"/>
                </a:solidFill>
                <a:latin typeface="Arial"/>
              </a:rPr>
              <a:t> – появляются пионеры и комсомольцы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87320" y="2933640"/>
            <a:ext cx="7921800" cy="307080"/>
          </a:xfrm>
          <a:prstGeom prst="rect">
            <a:avLst/>
          </a:prstGeom>
          <a:solidFill>
            <a:srgbClr val="c08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Arial"/>
              </a:rPr>
              <a:t>30е гг.</a:t>
            </a:r>
            <a:r>
              <a:rPr b="0" lang="ru-RU" sz="1400" spc="-1" strike="noStrike">
                <a:solidFill>
                  <a:srgbClr val="460000"/>
                </a:solidFill>
                <a:latin typeface="Arial"/>
              </a:rPr>
              <a:t> – уроки становятся по 45 мин., появляются отметки от 1 до 5, учатся 10 лет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003320" y="3454560"/>
            <a:ext cx="7705800" cy="520200"/>
          </a:xfrm>
          <a:prstGeom prst="rect">
            <a:avLst/>
          </a:prstGeom>
          <a:solidFill>
            <a:srgbClr val="c08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Arial"/>
              </a:rPr>
              <a:t>40е гг.</a:t>
            </a:r>
            <a:r>
              <a:rPr b="0" lang="ru-RU" sz="1400" spc="-1" strike="noStrike">
                <a:solidFill>
                  <a:srgbClr val="460000"/>
                </a:solidFill>
                <a:latin typeface="Arial"/>
              </a:rPr>
              <a:t> – война, школьники работают и помогают воевать; после войны вводится раздельное образование – мальчики / девочки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219320" y="4200480"/>
            <a:ext cx="7489800" cy="520200"/>
          </a:xfrm>
          <a:prstGeom prst="rect">
            <a:avLst/>
          </a:prstGeom>
          <a:solidFill>
            <a:srgbClr val="c08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Arial"/>
              </a:rPr>
              <a:t>50 - 80е гг.</a:t>
            </a:r>
            <a:r>
              <a:rPr b="0" lang="ru-RU" sz="1400" spc="-1" strike="noStrike">
                <a:solidFill>
                  <a:srgbClr val="460000"/>
                </a:solidFill>
                <a:latin typeface="Arial"/>
              </a:rPr>
              <a:t> – девочки и мальчики снова учатся вместе, вводят школьную форму, учатся 6 дней в неделю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36760" y="4950000"/>
            <a:ext cx="7272360" cy="520200"/>
          </a:xfrm>
          <a:prstGeom prst="rect">
            <a:avLst/>
          </a:prstGeom>
          <a:solidFill>
            <a:srgbClr val="c08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Arial"/>
              </a:rPr>
              <a:t>90е гг.</a:t>
            </a:r>
            <a:r>
              <a:rPr b="0" lang="ru-RU" sz="1400" spc="-1" strike="noStrike">
                <a:solidFill>
                  <a:srgbClr val="460000"/>
                </a:solidFill>
                <a:latin typeface="Arial"/>
              </a:rPr>
              <a:t> – школьную форму отменяют, отменяют пионерское движение, учатся 5 дней в неделю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1"/>
          <a:stretch/>
        </p:blipFill>
        <p:spPr>
          <a:xfrm>
            <a:off x="76320" y="4724280"/>
            <a:ext cx="1204920" cy="20606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606680" cy="14479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Школа в наши дн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539640" y="2708280"/>
            <a:ext cx="2449800" cy="2233440"/>
          </a:xfrm>
          <a:prstGeom prst="foldedCorner">
            <a:avLst>
              <a:gd name="adj" fmla="val 12500"/>
            </a:avLst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00040" y="2692440"/>
            <a:ext cx="251928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Arial"/>
              </a:rPr>
              <a:t>Общеобразовательная школа: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Arial"/>
              </a:rPr>
              <a:t>Начальная школа</a:t>
            </a: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 в России - первая ступень школьного образования, с 1 по 4 класс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Дети проходят тестирование при зачислении в школу, где проверяется их интеллектуальный уровень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Arial"/>
              </a:rPr>
              <a:t>Средняя школа</a:t>
            </a: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, с 5 по 9 класс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d4d4d"/>
                </a:solidFill>
                <a:latin typeface="Arial"/>
              </a:rPr>
              <a:t>Старшая школа</a:t>
            </a: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 с 10 по 11 класс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Обучаются школьники 6 дней в неделю совместно мальчики и девочки, кроме уроков труда в средней и старшей школе и иногда уроков физкультуры в старших классах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3348000" y="2708280"/>
            <a:ext cx="2449440" cy="2233440"/>
          </a:xfrm>
          <a:prstGeom prst="foldedCorner">
            <a:avLst>
              <a:gd name="adj" fmla="val 12500"/>
            </a:avLst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6156360" y="2708280"/>
            <a:ext cx="2449440" cy="2233440"/>
          </a:xfrm>
          <a:prstGeom prst="foldedCorner">
            <a:avLst>
              <a:gd name="adj" fmla="val 12500"/>
            </a:avLst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348000" y="2735280"/>
            <a:ext cx="23763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Arial"/>
              </a:rPr>
              <a:t>Лицейское образование</a:t>
            </a: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в России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ицей – это может быть либо среднее учебное заведение, либо профессиональное учебное заведение.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Как среднее учебное заведение – лицей дает базовые предметы + специализированную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одготовку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156360" y="2708280"/>
            <a:ext cx="237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Гимназии в России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Гимназии же - это государственные образовательные учебные заведения среднего типа.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Здесь учатся дети с повышенной мотивацией к учению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39640" y="5229360"/>
            <a:ext cx="1440000" cy="576000"/>
          </a:xfrm>
          <a:prstGeom prst="rect">
            <a:avLst/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ГИА –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итоговая аттестация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531720" y="6134040"/>
            <a:ext cx="1440000" cy="576360"/>
          </a:xfrm>
          <a:prstGeom prst="rect">
            <a:avLst/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ЕГЭ - единые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государственные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экзамены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2124000" y="5157720"/>
            <a:ext cx="3311640" cy="719280"/>
          </a:xfrm>
          <a:prstGeom prst="rect">
            <a:avLst/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2195640" y="5157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(после 9 класса)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Обязательные предметы: русский язык и математика,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без их успешной сдачи аттестат об окончании основной школы не получить.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5508720" y="5157720"/>
            <a:ext cx="3456000" cy="719280"/>
          </a:xfrm>
          <a:prstGeom prst="rect">
            <a:avLst/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5508720" y="5308560"/>
            <a:ext cx="35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Предметы на выбор: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1. обществознание, химия, литература, информатика и ИКТ</a:t>
            </a:r>
            <a:br>
              <a:rPr sz="900"/>
            </a:b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2. география, история, биология, иностранные языки, физика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2131920" y="6053040"/>
            <a:ext cx="3311640" cy="719280"/>
          </a:xfrm>
          <a:prstGeom prst="rect">
            <a:avLst/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2228760" y="6093000"/>
            <a:ext cx="2879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(после 11 класса)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d4d4d"/>
                </a:solidFill>
                <a:latin typeface="Arial"/>
              </a:rPr>
              <a:t>Обязательные предметы: русский язык и математика.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5532480" y="6059520"/>
            <a:ext cx="3432240" cy="719280"/>
          </a:xfrm>
          <a:prstGeom prst="rect">
            <a:avLst/>
          </a:prstGeom>
          <a:solidFill>
            <a:srgbClr val="c08d6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6029280"/>
            <a:ext cx="345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Предметы на выбор: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1. биология, история, ИКТ и информатика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2.  иностранные языки, физика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3. обществознание, химия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Arial"/>
              </a:rPr>
              <a:t>4.  литература, география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5" descr="i?id=352352762-68-72&amp;n=21"/>
          <p:cNvPicPr/>
          <p:nvPr/>
        </p:nvPicPr>
        <p:blipFill>
          <a:blip r:embed="rId1"/>
          <a:stretch/>
        </p:blipFill>
        <p:spPr>
          <a:xfrm>
            <a:off x="7391520" y="1066680"/>
            <a:ext cx="147960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Динамика развития школьного образования в Росси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65" name="Picture 30" descr=""/>
          <p:cNvPicPr/>
          <p:nvPr/>
        </p:nvPicPr>
        <p:blipFill>
          <a:blip r:embed="rId1"/>
          <a:stretch/>
        </p:blipFill>
        <p:spPr>
          <a:xfrm>
            <a:off x="1755720" y="2084400"/>
            <a:ext cx="5695920" cy="39146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66" name="Text Box 9"/>
          <p:cNvSpPr/>
          <p:nvPr/>
        </p:nvSpPr>
        <p:spPr>
          <a:xfrm>
            <a:off x="2147760" y="6021360"/>
            <a:ext cx="648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Древняя Русь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-XV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308400" y="6021360"/>
            <a:ext cx="79200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Петр </a:t>
            </a: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I 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Екатерина </a:t>
            </a: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II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VIII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916440" y="6021360"/>
            <a:ext cx="784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Александр </a:t>
            </a: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I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IX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540320" y="6021360"/>
            <a:ext cx="720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Николай </a:t>
            </a: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I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IX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124600" y="6021360"/>
            <a:ext cx="792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Александр </a:t>
            </a: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II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IX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64320" y="602136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X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 век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6372360" y="602136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XXI</a:t>
            </a:r>
            <a:r>
              <a:rPr b="1" lang="ru-RU" sz="800" spc="-1" strike="noStrike">
                <a:solidFill>
                  <a:srgbClr val="5f5f5f"/>
                </a:solidFill>
                <a:latin typeface="Arial"/>
              </a:rPr>
              <a:t> век</a:t>
            </a:r>
            <a:endParaRPr b="0" lang="en-US" sz="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2411280" y="5661000"/>
            <a:ext cx="7308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AutoShape 22"/>
          <p:cNvSpPr/>
          <p:nvPr/>
        </p:nvSpPr>
        <p:spPr>
          <a:xfrm>
            <a:off x="3051000" y="5326200"/>
            <a:ext cx="73080" cy="727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3675240" y="4005360"/>
            <a:ext cx="7272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AutoShape 24"/>
          <p:cNvSpPr/>
          <p:nvPr/>
        </p:nvSpPr>
        <p:spPr>
          <a:xfrm>
            <a:off x="4282920" y="3860640"/>
            <a:ext cx="7308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4851360" y="4084560"/>
            <a:ext cx="7308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AutoShape 26"/>
          <p:cNvSpPr/>
          <p:nvPr/>
        </p:nvSpPr>
        <p:spPr>
          <a:xfrm>
            <a:off x="5492880" y="3676680"/>
            <a:ext cx="7272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AutoShape 27"/>
          <p:cNvSpPr/>
          <p:nvPr/>
        </p:nvSpPr>
        <p:spPr>
          <a:xfrm>
            <a:off x="6124680" y="3341520"/>
            <a:ext cx="7308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AutoShape 28"/>
          <p:cNvSpPr/>
          <p:nvPr/>
        </p:nvSpPr>
        <p:spPr>
          <a:xfrm>
            <a:off x="6699240" y="2668680"/>
            <a:ext cx="73080" cy="730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i.jpg"/>
          <p:cNvPicPr/>
          <p:nvPr/>
        </p:nvPicPr>
        <p:blipFill>
          <a:blip r:embed="rId1"/>
          <a:stretch/>
        </p:blipFill>
        <p:spPr>
          <a:xfrm>
            <a:off x="2895480" y="2133720"/>
            <a:ext cx="35816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752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4d4d4d"/>
                </a:solidFill>
                <a:uFillTx/>
                <a:latin typeface="Microsoft Sans Serif"/>
              </a:rPr>
              <a:t>Цель пректа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icrosoft Sans Serif"/>
              </a:rPr>
              <a:t>Цель проекта:</a:t>
            </a:r>
            <a:r>
              <a:rPr b="0" lang="ru-RU" sz="1800" spc="-1" strike="noStrike">
                <a:solidFill>
                  <a:srgbClr val="002060"/>
                </a:solidFill>
                <a:latin typeface="Microsoft Sans Serif"/>
              </a:rPr>
              <a:t> создать условия для соответствия образовательной среды стратегическим направлениям развития страны и опережающего обучения школьников, придавая </a:t>
            </a:r>
            <a:r>
              <a:rPr b="0" lang="ru-RU" sz="1800" spc="-1" strike="noStrike" u="sng">
                <a:solidFill>
                  <a:srgbClr val="cca471"/>
                </a:solidFill>
                <a:uFillTx/>
                <a:latin typeface="Microsoft Sans Serif"/>
                <a:hlinkClick r:id="rId1"/>
              </a:rPr>
              <a:t>образовательной деятельности</a:t>
            </a:r>
            <a:r>
              <a:rPr b="0" lang="ru-RU" sz="1800" spc="-1" strike="noStrike">
                <a:solidFill>
                  <a:srgbClr val="002060"/>
                </a:solidFill>
                <a:latin typeface="Microsoft Sans Serif"/>
              </a:rPr>
              <a:t> субъектно-творческий характер обеспечение нового качества образования, ориентированного на повышение качества жизни будущих выпускников, за счет создания в школе мотивационной образовательной среды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Школа будущего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d4d4d"/>
                </a:solidFill>
                <a:latin typeface="Microsoft Sans Serif"/>
              </a:rPr>
              <a:t>Будущее. Людям всегда было интересно, что их ждет в будущем, как изменятся вещи и люди, окружающие их. Школа. Какая она будет через 15 – 20 лет? Никто не может ответить на этот вопрос сейчас, но мы можем представить и просто помечтать.</a:t>
            </a:r>
            <a:endParaRPr b="0" lang="en-US" sz="11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275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84" name="Picture 15" descr="I-34-TELEGR-news-f12_640"/>
          <p:cNvPicPr/>
          <p:nvPr/>
        </p:nvPicPr>
        <p:blipFill>
          <a:blip r:embed="rId1"/>
          <a:stretch/>
        </p:blipFill>
        <p:spPr>
          <a:xfrm>
            <a:off x="7620120" y="1295280"/>
            <a:ext cx="1523880" cy="11462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85" name="Picture 13" descr="image001"/>
          <p:cNvPicPr/>
          <p:nvPr/>
        </p:nvPicPr>
        <p:blipFill>
          <a:blip r:embed="rId2"/>
          <a:stretch/>
        </p:blipFill>
        <p:spPr>
          <a:xfrm>
            <a:off x="304920" y="3124080"/>
            <a:ext cx="2971800" cy="21020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86" name="Picture 16" descr="shkola_2"/>
          <p:cNvPicPr/>
          <p:nvPr/>
        </p:nvPicPr>
        <p:blipFill>
          <a:blip r:embed="rId3"/>
          <a:stretch/>
        </p:blipFill>
        <p:spPr>
          <a:xfrm>
            <a:off x="3352680" y="3581280"/>
            <a:ext cx="1605240" cy="28958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5334120" y="3124080"/>
            <a:ext cx="3200400" cy="21542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188" name="Рисунок 7" descr="png-clipart-presentation-thumbnail-syringe-miscellaneous-angle.png"/>
          <p:cNvPicPr/>
          <p:nvPr/>
        </p:nvPicPr>
        <p:blipFill>
          <a:blip r:embed="rId5"/>
          <a:stretch/>
        </p:blipFill>
        <p:spPr>
          <a:xfrm>
            <a:off x="15228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8" descr="images.png"/>
          <p:cNvPicPr/>
          <p:nvPr/>
        </p:nvPicPr>
        <p:blipFill>
          <a:blip r:embed="rId6"/>
          <a:stretch/>
        </p:blipFill>
        <p:spPr>
          <a:xfrm>
            <a:off x="8153280" y="5369040"/>
            <a:ext cx="838440" cy="14889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e15udg.jpg"/>
          <p:cNvPicPr/>
          <p:nvPr/>
        </p:nvPicPr>
        <p:blipFill>
          <a:blip r:embed="rId7"/>
          <a:stretch/>
        </p:blipFill>
        <p:spPr>
          <a:xfrm>
            <a:off x="5410080" y="5410080"/>
            <a:ext cx="202248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В школе будущего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не будет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набитых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книгами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портфелей !!!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92" name="Picture 9" descr="40748366"/>
          <p:cNvPicPr/>
          <p:nvPr/>
        </p:nvPicPr>
        <p:blipFill>
          <a:blip r:embed="rId1"/>
          <a:stretch/>
        </p:blipFill>
        <p:spPr>
          <a:xfrm>
            <a:off x="6413400" y="2664000"/>
            <a:ext cx="27370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0000"/>
                </a:solidFill>
                <a:latin typeface="Microsoft Sans Serif"/>
                <a:ea typeface="Tahoma"/>
              </a:rPr>
              <a:t>В школе будущего появятся новые технологии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Microsoft Sans Serif"/>
                <a:ea typeface="PMingLiU"/>
              </a:rPr>
              <a:t>Ученики будут пользоваться ноутбуками-слайдерами или гармошками. У них крышка не открывается, а сдвигается.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Microsoft Sans Serif"/>
                <a:ea typeface="PMingLiU"/>
              </a:rPr>
              <a:t> </a:t>
            </a:r>
            <a:r>
              <a:rPr b="1" lang="ru-RU" sz="1400" spc="-1" strike="noStrike">
                <a:solidFill>
                  <a:srgbClr val="460000"/>
                </a:solidFill>
                <a:latin typeface="Microsoft Sans Serif"/>
                <a:ea typeface="PMingLiU"/>
              </a:rPr>
              <a:t>А ещё можно будет сыграть любимую мелодию на ноутбуке-пианино.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0000"/>
                </a:solidFill>
                <a:latin typeface="Microsoft Sans Serif"/>
                <a:ea typeface="PMingLiU"/>
              </a:rPr>
              <a:t>    </a:t>
            </a:r>
            <a:r>
              <a:rPr b="1" lang="ru-RU" sz="1400" spc="-1" strike="noStrike">
                <a:solidFill>
                  <a:srgbClr val="460000"/>
                </a:solidFill>
                <a:latin typeface="Microsoft Sans Serif"/>
                <a:ea typeface="PMingLiU"/>
              </a:rPr>
              <a:t>Уже сейчас итальянские специалисты создали модель ноутбука с двумя дисплеями. Этот ноутбук может превращаться в электронную книгу, газету, пианино и даже в альбом для набросков.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95" name="Рисунок 3" descr="ноутбук будущего"/>
          <p:cNvPicPr/>
          <p:nvPr/>
        </p:nvPicPr>
        <p:blipFill>
          <a:blip r:embed="rId1"/>
          <a:stretch/>
        </p:blipFill>
        <p:spPr>
          <a:xfrm>
            <a:off x="890640" y="3956040"/>
            <a:ext cx="2260440" cy="50846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ноутбук"/>
          <p:cNvPicPr/>
          <p:nvPr/>
        </p:nvPicPr>
        <p:blipFill>
          <a:blip r:embed="rId2"/>
          <a:stretch/>
        </p:blipFill>
        <p:spPr>
          <a:xfrm>
            <a:off x="4395960" y="4340160"/>
            <a:ext cx="3558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60000"/>
                </a:solidFill>
                <a:latin typeface="Microsoft Sans Serif"/>
                <a:ea typeface="Times New Roman"/>
              </a:rPr>
              <a:t>Все уроки будут проходить в </a:t>
            </a:r>
            <a:br>
              <a:rPr sz="1200"/>
            </a:br>
            <a:r>
              <a:rPr b="1" lang="ru-RU" sz="1200" spc="-1" strike="noStrike">
                <a:solidFill>
                  <a:srgbClr val="460000"/>
                </a:solidFill>
                <a:latin typeface="Microsoft Sans Serif"/>
                <a:ea typeface="Times New Roman"/>
              </a:rPr>
              <a:t>компьютеризованных классах. </a:t>
            </a:r>
            <a:r>
              <a:rPr b="1" lang="ru-RU" sz="1200" spc="-1" strike="noStrike">
                <a:solidFill>
                  <a:srgbClr val="460000"/>
                </a:solidFill>
                <a:latin typeface="Microsoft Sans Serif"/>
                <a:ea typeface="Calibri"/>
              </a:rPr>
              <a:t>Дети будут сидеть за партами, парящими в воздухе. На этих партах можно будут перелетать из класса в класс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Microsoft Sans Serif"/>
                <a:ea typeface="Times New Roman"/>
              </a:rPr>
              <a:t>Уроки русского языка и математики станут ещё интереснее  в школе будущего!</a:t>
            </a:r>
            <a:r>
              <a:rPr b="1" lang="ru-RU" sz="1200" spc="-1" strike="noStrike">
                <a:solidFill>
                  <a:srgbClr val="009a46"/>
                </a:solidFill>
                <a:latin typeface="Microsoft Sans Serif"/>
                <a:ea typeface="Times New Roman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spcBef>
                <a:spcPts val="300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60000"/>
                </a:solidFill>
                <a:latin typeface="Microsoft Sans Serif"/>
                <a:ea typeface="Times New Roman"/>
              </a:rPr>
              <a:t>Появятся интеллектуальные ручки и карандаши, с которыми школьники не будут делать ошибки. Такая ручка будет подавать сигнал о неправильном написании или решении и перестанет писать, пока ученик не исправит ошибку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00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738360" y="4260960"/>
            <a:ext cx="2260440" cy="392580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5" descr=""/>
          <p:cNvPicPr/>
          <p:nvPr/>
        </p:nvPicPr>
        <p:blipFill>
          <a:blip r:embed="rId2"/>
          <a:stretch/>
        </p:blipFill>
        <p:spPr>
          <a:xfrm>
            <a:off x="4475160" y="4187880"/>
            <a:ext cx="230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Результаты опрос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202" name="Содержимое 3" descr="30abe3ea11f2e96cd4b0e.jpg"/>
          <p:cNvPicPr/>
          <p:nvPr/>
        </p:nvPicPr>
        <p:blipFill>
          <a:blip r:embed="rId1"/>
          <a:stretch/>
        </p:blipFill>
        <p:spPr>
          <a:xfrm>
            <a:off x="2286000" y="2133720"/>
            <a:ext cx="4667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204" name="Заголовок 1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Результаты опроса учащихс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205" name="Содержимое 3"/>
          <p:cNvGraphicFramePr/>
          <p:nvPr/>
        </p:nvGraphicFramePr>
        <p:xfrm>
          <a:off x="0" y="1295280"/>
          <a:ext cx="9231480" cy="615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23148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СПАСИБО ЗА ВНИМАНИЕ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208" name="Содержимое 3" descr="i (1).jpg"/>
          <p:cNvPicPr/>
          <p:nvPr/>
        </p:nvPicPr>
        <p:blipFill>
          <a:blip r:embed="rId1"/>
          <a:stretch/>
        </p:blipFill>
        <p:spPr>
          <a:xfrm>
            <a:off x="2971800" y="2743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9907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0000"/>
                </a:solidFill>
                <a:latin typeface="Microsoft Sans Serif"/>
              </a:rPr>
              <a:t>К чему нужно стремиться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1080" y="193500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9a5e4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icrosoft Sans Serif"/>
              </a:rPr>
              <a:t>создание более комфортных условий для обучения, способствующих повышению душевного и физического здоровья учащихся;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469800" indent="-469800">
              <a:spcBef>
                <a:spcPts val="499"/>
              </a:spcBef>
              <a:buClr>
                <a:srgbClr val="9a5e4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icrosoft Sans Serif"/>
              </a:rPr>
              <a:t>-использование инновационных  методов проведения уроков и занятий, способствующих повышению мотивации для обучения, заинтересованности учащихся процессом обучения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Microsoft Sans Serif"/>
              </a:rPr>
              <a:t>РАССМОТРЕТЬ ЭТАПЫ РАЗВИТИЯ ОБРАЗОВАНИЯ РОССИИ И ОПРЕДЕЛИТЬ МЕСТО ШКОЛЫ В СОВРЕМЕННОЙ РОССИ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Microsoft Sans Serif"/>
              </a:rPr>
              <a:t>РАССМОТРЕТЬ В ПЕРСПЕКТИВЕ ВОЗМОЖНОСТИ УЧЕНИКА «ШКОЛЫ БУДУЩЕГО»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914040"/>
            <a:ext cx="4572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0000"/>
                </a:solidFill>
                <a:latin typeface="Microsoft Sans Serif"/>
              </a:rPr>
              <a:t>            </a:t>
            </a:r>
            <a:r>
              <a:rPr b="1" lang="ru-RU" sz="3200" spc="-1" strike="noStrike">
                <a:solidFill>
                  <a:srgbClr val="540000"/>
                </a:solidFill>
                <a:latin typeface="Microsoft Sans Serif"/>
              </a:rPr>
              <a:t>Задачи проекта:</a:t>
            </a:r>
            <a:br>
              <a:rPr sz="2400"/>
            </a:b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417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История развития школы в России.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2" name="Picture 6" descr="i?id=525549005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14600"/>
            <a:ext cx="1400040" cy="150480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93" name="AutoShape 15"/>
          <p:cNvSpPr/>
          <p:nvPr/>
        </p:nvSpPr>
        <p:spPr>
          <a:xfrm>
            <a:off x="1523880" y="3048120"/>
            <a:ext cx="914400" cy="358560"/>
          </a:xfrm>
          <a:prstGeom prst="pie">
            <a:avLst/>
          </a:prstGeom>
          <a:solidFill>
            <a:srgbClr val="ae77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4" name="Picture 10" descr="i?id=457701566-61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514600"/>
            <a:ext cx="1905120" cy="15289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95" name="Picture 8" descr="i?id=141169489-1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2514600"/>
            <a:ext cx="2090520" cy="152388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96" name="AutoShape 15"/>
          <p:cNvSpPr/>
          <p:nvPr/>
        </p:nvSpPr>
        <p:spPr>
          <a:xfrm>
            <a:off x="4419720" y="3124080"/>
            <a:ext cx="914400" cy="358920"/>
          </a:xfrm>
          <a:prstGeom prst="pie">
            <a:avLst/>
          </a:prstGeom>
          <a:solidFill>
            <a:srgbClr val="ae77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7467480" y="3048120"/>
            <a:ext cx="914400" cy="358560"/>
          </a:xfrm>
          <a:prstGeom prst="pie">
            <a:avLst/>
          </a:prstGeom>
          <a:solidFill>
            <a:srgbClr val="ae77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21" descr="Фотографи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066680" y="4495680"/>
            <a:ext cx="1800360" cy="18003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99" name="Picture 14" descr="Фотография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495680"/>
            <a:ext cx="1800360" cy="180036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00" name="AutoShape 15"/>
          <p:cNvSpPr/>
          <p:nvPr/>
        </p:nvSpPr>
        <p:spPr>
          <a:xfrm>
            <a:off x="3352680" y="5181480"/>
            <a:ext cx="1447920" cy="358920"/>
          </a:xfrm>
          <a:prstGeom prst="pie">
            <a:avLst/>
          </a:prstGeom>
          <a:solidFill>
            <a:srgbClr val="ae77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d4d4d"/>
                </a:solidFill>
                <a:latin typeface="Microsoft Sans Serif"/>
              </a:rPr>
              <a:t>Образование на Руси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0000"/>
                </a:solidFill>
                <a:latin typeface="Microsoft Sans Serif"/>
              </a:rPr>
              <a:t>Некоторые историки российского образования высказывали мнение, что в Древней Руси большинство населения было не только малообразованным, но и вообще безграмотным. 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spcBef>
                <a:spcPts val="624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0000"/>
                </a:solidFill>
                <a:latin typeface="Microsoft Sans Serif"/>
              </a:rPr>
              <a:t>Однако сохранились многочисленные свидетельства обратного. 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spcBef>
                <a:spcPts val="224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60000"/>
                </a:solidFill>
                <a:latin typeface="Microsoft Sans Serif"/>
              </a:rPr>
              <a:t>Например, открыты так называемые </a:t>
            </a:r>
            <a:r>
              <a:rPr b="1" lang="ru-RU" sz="900" spc="-1" strike="noStrike">
                <a:solidFill>
                  <a:srgbClr val="460000"/>
                </a:solidFill>
                <a:latin typeface="Microsoft Sans Serif"/>
              </a:rPr>
              <a:t>граффити</a:t>
            </a:r>
            <a:r>
              <a:rPr b="0" lang="ru-RU" sz="900" spc="-1" strike="noStrike">
                <a:solidFill>
                  <a:srgbClr val="460000"/>
                </a:solidFill>
                <a:latin typeface="Microsoft Sans Serif"/>
              </a:rPr>
              <a:t> </a:t>
            </a:r>
            <a:endParaRPr b="0" lang="en-US" sz="9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ctr">
              <a:spcBef>
                <a:spcPts val="224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60000"/>
                </a:solidFill>
                <a:latin typeface="Microsoft Sans Serif"/>
              </a:rPr>
              <a:t>надписи, сделанные на стенах соборов и церквей. </a:t>
            </a:r>
            <a:endParaRPr b="0" lang="en-US" sz="9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224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3" name="Picture 6" descr="Надпись-считалка о перепёлке. Софийский собор в Новгороде."/>
          <p:cNvPicPr/>
          <p:nvPr/>
        </p:nvPicPr>
        <p:blipFill>
          <a:blip r:embed="rId1"/>
          <a:stretch/>
        </p:blipFill>
        <p:spPr>
          <a:xfrm>
            <a:off x="2362320" y="3429000"/>
            <a:ext cx="4495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0000"/>
                </a:solidFill>
                <a:latin typeface="Microsoft Sans Serif"/>
              </a:rPr>
              <a:t>Найдены многочисленные </a:t>
            </a:r>
            <a:r>
              <a:rPr b="1" lang="ru-RU" sz="2000" spc="-1" strike="noStrike">
                <a:solidFill>
                  <a:srgbClr val="460000"/>
                </a:solidFill>
                <a:latin typeface="Microsoft Sans Serif"/>
              </a:rPr>
              <a:t>берестяные грамоты XI–XIII вв, </a:t>
            </a:r>
            <a:r>
              <a:rPr b="0" lang="ru-RU" sz="2000" spc="-1" strike="noStrike">
                <a:solidFill>
                  <a:srgbClr val="460000"/>
                </a:solidFill>
                <a:latin typeface="Microsoft Sans Serif"/>
              </a:rPr>
              <a:t>их авторами были купцы, ремесленники, даже крестьяне, встречались и грамоты, написанные женщинами. </a:t>
            </a:r>
            <a:br>
              <a:rPr sz="2000"/>
            </a:b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5" name="Picture 8" descr="грамота берестяная"/>
          <p:cNvPicPr/>
          <p:nvPr/>
        </p:nvPicPr>
        <p:blipFill>
          <a:blip r:embed="rId1"/>
          <a:stretch/>
        </p:blipFill>
        <p:spPr>
          <a:xfrm>
            <a:off x="1523880" y="2133720"/>
            <a:ext cx="502920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image008"/>
          <p:cNvPicPr/>
          <p:nvPr/>
        </p:nvPicPr>
        <p:blipFill>
          <a:blip r:embed="rId2"/>
          <a:stretch/>
        </p:blipFill>
        <p:spPr>
          <a:xfrm>
            <a:off x="4038480" y="4343400"/>
            <a:ext cx="48675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533520" y="44956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460000"/>
                </a:solidFill>
                <a:latin typeface="Arial"/>
              </a:rPr>
              <a:t>татаро-монгольское нашествие</a:t>
            </a:r>
            <a:r>
              <a:rPr b="0" lang="ru-RU" sz="1800" spc="-1" strike="noStrike">
                <a:solidFill>
                  <a:srgbClr val="460000"/>
                </a:solidFill>
                <a:latin typeface="Arial"/>
              </a:rPr>
              <a:t> (как известно, в это время погибла большая часть древнерусских рукописей) плохо отразилось и на образовани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Начало образования </a:t>
            </a:r>
            <a:br>
              <a:rPr sz="4000"/>
            </a:b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на Руси (Х-</a:t>
            </a: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XV </a:t>
            </a: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вв.</a:t>
            </a: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)</a:t>
            </a: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На Руси</a:t>
            </a: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 учебные заведения именовались </a:t>
            </a: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училищами</a:t>
            </a: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Слово </a:t>
            </a: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школа </a:t>
            </a: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стало распространено начиная </a:t>
            </a: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с XIV века</a:t>
            </a: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. 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Но уже в первой половине </a:t>
            </a: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XI века</a:t>
            </a: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 были известны: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 </a:t>
            </a: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дворцовая школа князя Владимира в Киеве</a:t>
            </a: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 и 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60000"/>
                </a:solidFill>
                <a:latin typeface="Microsoft Sans Serif"/>
              </a:rPr>
              <a:t> </a:t>
            </a:r>
            <a:r>
              <a:rPr b="1" i="1" lang="ru-RU" sz="1200" spc="-1" strike="noStrike">
                <a:solidFill>
                  <a:srgbClr val="460000"/>
                </a:solidFill>
                <a:latin typeface="Microsoft Sans Serif"/>
              </a:rPr>
              <a:t>школа, основанная Ярос</a:t>
            </a:r>
            <a:r>
              <a:rPr b="1" lang="ru-RU" sz="1200" spc="-1" strike="noStrike">
                <a:solidFill>
                  <a:srgbClr val="460000"/>
                </a:solidFill>
                <a:latin typeface="Microsoft Sans Serif"/>
              </a:rPr>
              <a:t>лавом Мудрым в Новгороде</a:t>
            </a: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 в 1030 году.</a:t>
            </a:r>
            <a:br>
              <a:rPr sz="1200"/>
            </a:b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Изучали в школах </a:t>
            </a:r>
            <a:r>
              <a:rPr b="1" lang="ru-RU" sz="1200" spc="-1" strike="noStrike">
                <a:solidFill>
                  <a:srgbClr val="460000"/>
                </a:solidFill>
                <a:latin typeface="Microsoft Sans Serif"/>
              </a:rPr>
              <a:t>семь свободных искусств</a:t>
            </a: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: грамматика, риторика, диалектика (так называемый тривиум), арифметика, геометрия, музыка и астрономия (так называемый квадривиум). 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Особые школы существовали для обучения грамоте и иностранным языкам (например, греческому языку, эллинскому и латыни)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В 1086 году в Киеве было открыто первое </a:t>
            </a:r>
            <a:r>
              <a:rPr b="1" lang="ru-RU" sz="1200" spc="-1" strike="noStrike">
                <a:solidFill>
                  <a:srgbClr val="460000"/>
                </a:solidFill>
                <a:latin typeface="Microsoft Sans Serif"/>
              </a:rPr>
              <a:t>женское училище</a:t>
            </a: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. 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Школы создавались, как правило, князьями или при монастырях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2001"/>
              </a:spcBef>
              <a:buClr>
                <a:srgbClr val="46000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981080" cy="15224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Допетровское время (XVI–XVII вв.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В XV-XVI вв. идет процесс объединения раздробленных княжеств. Укрепление Руси. Стали возникать многочисленные школы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Создавались и издавались учебники.</a:t>
            </a:r>
            <a:br>
              <a:rPr sz="1200"/>
            </a:b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Важно подчеркнуть, что в Московском государстве учиться могли все - священники, дьяконы, монахи, князья, спальники, стольники и «всякого чина москвичи» вплоть до слуг и сына конюха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Чему обучались в школах в допетровское время?</a:t>
            </a:r>
            <a:br>
              <a:rPr sz="1200"/>
            </a:b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-грамоте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-чтению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письму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пению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счетной мудрости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51"/>
              </a:spcBef>
              <a:buClr>
                <a:srgbClr val="46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0000"/>
                </a:solidFill>
                <a:latin typeface="Microsoft Sans Serif"/>
              </a:rPr>
              <a:t>На Руси издавалось до 2,5 тысяч экземпляров букварей.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334656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User</cp:lastModifiedBy>
  <dcterms:modified xsi:type="dcterms:W3CDTF">2022-05-16T14:07:10Z</dcterms:modified>
  <cp:revision>68</cp:revision>
  <dc:subject/>
  <dc:title>Школа будущего</dc:title>
</cp:coreProperties>
</file>