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hdphoto1.wdp" ContentType="image/vnd.ms-photo"/>
  <Override PartName="/ppt/media/image6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563E8D-6699-4EA1-8BDB-6F2AEFF31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37CCEE-960A-4500-B18F-353EBEF4DA7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1287-D4EE-4400-9C04-B0CCFC0D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910B-4651-44F0-BFFD-C61A7FC6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64C6-37D1-4EFB-829D-76485103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A02-3E60-438E-ABEE-19B846CF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0D1F-01B8-4F4B-97C9-9C3CF02C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9583-3225-4D97-96A0-55D2BB27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1F64-2D63-4B00-9013-80B0ABBF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A4D3-A1E3-49E9-8F0F-F873C33D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07BE-97C3-4530-8AD8-4D2FDA8D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EC93-61D8-4E02-8780-2BE14867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882B-422E-454B-8746-5DEC6BC2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17E-03C1-4C10-A818-BB18C193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12D2-86E6-445F-8169-1B6C20AF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BFCD-953C-4E6D-9511-49CD2659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4CBD-7045-4FBB-9778-A268E834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ECAD-FDA5-4B7B-9DF3-0B2B1D6E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862B-E213-44E8-912C-DE0BFA0D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3CEE0-504B-4AEB-BDFE-62C9E7F9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AE903-7DDE-414B-AD57-834DC369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1BC05-A252-43D9-9F4A-BDC67828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B3EE2-FE2F-4E61-8A79-D111D871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40003-C99A-4692-AB6A-6AEA4249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89F5-F30F-4FC9-B5BE-58652D72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1E420-75CC-4A6E-8C4D-BA0C7C1A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2E5C6-1BF3-421C-9D09-17157DB1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355DA-A98D-4560-A5FC-60E25C1D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9E8A0-A30D-4951-9696-11259C71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50287-9FFF-4E85-9385-E3A9CCD1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919F6-C802-4118-A951-B30CEE73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61D3D-0F88-4D29-B3D8-2DD43996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DBDCD-9406-4558-8A32-C9499864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45DA3-D849-48C2-B2F4-C321BAAA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D7B61-4A28-4C4E-8825-79645F7B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4A0E-E1DF-470F-8116-285FD37A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FAB19-7685-4411-A7CD-7BF3EBAF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2017A-EDF2-4104-98DD-4E7811C9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2C390-7B7B-4DCE-9D4C-A49560ED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B2B89-6036-4C93-AD5C-A8AE0764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EF814-5AD2-4DCE-8934-991DF1ED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6F335-FA28-4DE3-82F0-910160BA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2FEDA-3A0C-4CBC-A993-768D1B81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F1A09-B923-4EBC-AC78-40BA637E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D47F9-9243-4B43-9DEA-57512555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DED0-1ACD-400A-BFA6-A15702BA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95D-5DB6-4B31-AB2C-CE4B1818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81BC-8626-46D6-A4FF-C19626EC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6146-E047-409F-A4F1-92FD9BBF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86D4-5E9F-4F2F-9568-2099D4D5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0C3CEB-E452-4EF7-9610-1AF7E462259E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4B1DCC-85B2-4BCA-B939-F29DAAB56FD5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B10B51-5D3E-4FE9-805A-FC5EBB3EC270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64A124-48A9-4C4B-8B90-0C7B78B784E7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microsoft.com/office/2007/relationships/hdphoto" Target="../media/hdphoto1.wdp"/><Relationship Id="rId3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3"/>
          <p:cNvSpPr/>
          <p:nvPr/>
        </p:nvSpPr>
        <p:spPr>
          <a:xfrm>
            <a:off x="395640" y="0"/>
            <a:ext cx="7992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акой мы пьем чай?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4"/>
          <p:cNvSpPr/>
          <p:nvPr/>
        </p:nvSpPr>
        <p:spPr>
          <a:xfrm>
            <a:off x="317160" y="764640"/>
            <a:ext cx="8568720" cy="63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холодно, чай Вас согреет. Если Вам жарко, он Вас охладит. Если у Вас настроение подавленное — он Вас подбодрит, если Вы возбуждены — он Вас успокои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Сэр Уильям Гладст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премьер-министр Великобритании 19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Выполн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Фатхутдинова Рег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ученица  9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Руководи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Гайс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Альбина Льв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учитель химии и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3640" y="260640"/>
            <a:ext cx="8686440" cy="7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Степень завариваемости чая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35" name="Объект 3"/>
          <p:cNvGraphicFramePr/>
          <p:nvPr/>
        </p:nvGraphicFramePr>
        <p:xfrm>
          <a:off x="179640" y="1052640"/>
          <a:ext cx="8712720" cy="6190920"/>
        </p:xfrm>
        <a:graphic>
          <a:graphicData uri="http://schemas.openxmlformats.org/drawingml/2006/table">
            <a:tbl>
              <a:tblPr/>
              <a:tblGrid>
                <a:gridCol w="1269360"/>
                <a:gridCol w="3770640"/>
                <a:gridCol w="3672360"/>
              </a:tblGrid>
              <a:tr h="1262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№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/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звание ча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ремя появления цве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856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Принцесса Нур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120 се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</a:tr>
              <a:tr h="856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Те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50 се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</a:tr>
              <a:tr h="856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Здоровь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2 се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</a:tr>
              <a:tr h="856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Имп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44 се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</a:tr>
              <a:tr h="856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Традицион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80 се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Извлечение  танина из чая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7" name="Picture 2" descr="C:\Users\Илшат\Desktop\иссл. работа МАН\SAM_3686.JPG"/>
          <p:cNvPicPr/>
          <p:nvPr/>
        </p:nvPicPr>
        <p:blipFill>
          <a:blip r:embed="rId1"/>
          <a:srcRect l="0" t="0" r="0" b="13967"/>
          <a:stretch/>
        </p:blipFill>
        <p:spPr>
          <a:xfrm>
            <a:off x="323640" y="1052640"/>
            <a:ext cx="847872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640" y="188640"/>
            <a:ext cx="8686440" cy="6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Результаты  определения  витамина  р  в  чае.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1640" y="1124640"/>
            <a:ext cx="871272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5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Х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=(3,2*1,3*50*100)/(10*100*1000)=0,0208г%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Х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=(3,2*1,5*50*100)/(10*100*1000)=0,024г%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Х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=(3,2*1,1*50*100)/(10*100*1000)=0,0176г%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Х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=(3,2*1,6*50*100)/(10*100*1000)=0,0256г%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Х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=(3,2*1,4*50*100)/(10*100*1000)=0,0224г%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899640" y="271080"/>
            <a:ext cx="7848360" cy="11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меркалось, на столе блиста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Шипел вечерний самовар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итайский чайник нагревая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од ним клубился лёгкий пар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Разлитый Ольгиной рукою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о чашкам тёмною струёю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Уже душистый чай бежал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И сливки мальчик подавал…</a:t>
            </a: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Franklin Gothic Book"/>
              </a:rPr>
              <a:t>Пушкин А.С., русский 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icture 2"/>
          <p:cNvSpPr/>
          <p:nvPr/>
        </p:nvSpPr>
        <p:spPr>
          <a:xfrm>
            <a:off x="126000" y="226440"/>
            <a:ext cx="8838000" cy="6226560"/>
          </a:xfrm>
          <a:prstGeom prst="roundRect">
            <a:avLst>
              <a:gd name="adj" fmla="val 50000"/>
            </a:avLst>
          </a:prstGeom>
          <a:blipFill rotWithShape="0">
            <a:blip r:embed="rId1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brightnessContrast bright="20000" contrast="-40000"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71800" y="3372840"/>
            <a:ext cx="8686440" cy="27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cap="all">
                <a:solidFill>
                  <a:srgbClr val="002060"/>
                </a:solidFill>
                <a:latin typeface="Comic Sans MS"/>
              </a:rPr>
              <a:t>Приятного чаепития.</a:t>
            </a:r>
            <a:br>
              <a:rPr sz="4400"/>
            </a:br>
            <a:br>
              <a:rPr sz="4400"/>
            </a:br>
            <a:r>
              <a:rPr b="1" i="1" lang="ru-RU" sz="4400" spc="-1" strike="noStrike" cap="all">
                <a:solidFill>
                  <a:srgbClr val="002060"/>
                </a:solidFill>
                <a:latin typeface="Comic Sans MS"/>
              </a:rPr>
              <a:t>Спасибо за внимание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2"/>
          <p:cNvSpPr/>
          <p:nvPr/>
        </p:nvSpPr>
        <p:spPr>
          <a:xfrm>
            <a:off x="500040" y="500040"/>
            <a:ext cx="8143560" cy="1765440"/>
          </a:xfrm>
          <a:prstGeom prst="rect">
            <a:avLst/>
          </a:prstGeom>
          <a:solidFill>
            <a:srgbClr val="ffffff"/>
          </a:solidFill>
          <a:ln>
            <a:solidFill>
              <a:srgbClr val="c17529">
                <a:lumMod val="40000"/>
                <a:lumOff val="60000"/>
              </a:srgbClr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chemeClr val="dk1"/>
                </a:solidFill>
                <a:latin typeface="Franklin Gothic Book"/>
              </a:rPr>
              <a:t>  </a:t>
            </a:r>
            <a:r>
              <a:rPr b="0" lang="ru-RU" sz="2200" spc="-1" strike="noStrike">
                <a:solidFill>
                  <a:schemeClr val="dk1"/>
                </a:solidFill>
                <a:latin typeface="Franklin Gothic Book"/>
              </a:rPr>
              <a:t>Вскоре Россия заняла второе место после Англии по употреблению чая. В крупных городах страны открывались специализированные магазины, торговавшие чаем. Правда, долгое время этот напиток считался редким и был принадлежностью зна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3635280" y="2571840"/>
            <a:ext cx="5328720" cy="3747240"/>
          </a:xfrm>
          <a:prstGeom prst="rect">
            <a:avLst/>
          </a:prstGeom>
          <a:solidFill>
            <a:srgbClr val="ffffff"/>
          </a:solidFill>
          <a:ln>
            <a:solidFill>
              <a:srgbClr val="c17529">
                <a:lumMod val="40000"/>
                <a:lumOff val="60000"/>
              </a:srgbClr>
            </a:solidFill>
            <a:round/>
          </a:ln>
          <a:scene3d>
            <a:camera prst="perspectiveLeft"/>
            <a:lightRig dir="t" rig="threePt"/>
          </a:scene3d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Franklin Gothic Book"/>
              </a:rPr>
              <a:t>  </a:t>
            </a:r>
            <a:r>
              <a:rPr b="0" lang="ru-RU" sz="2400" spc="-1" strike="noStrike">
                <a:solidFill>
                  <a:schemeClr val="dk1"/>
                </a:solidFill>
                <a:latin typeface="Franklin Gothic Book"/>
              </a:rPr>
              <a:t>Чаепитие в России за 300 лет стало настолько популярным, что превратилось в один из национальных обычаев. Один из иностранных путешественников заметил, что русские до того наупражнялись в приготовлении чая, что неожиданно для себя изобрели самовар. Они появились в России в 1679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C:\Documents and Settings\Владелец\Рабочий стол\Новая папка\23322b.jpg"/>
          <p:cNvPicPr/>
          <p:nvPr/>
        </p:nvPicPr>
        <p:blipFill>
          <a:blip r:embed="rId1"/>
          <a:stretch/>
        </p:blipFill>
        <p:spPr>
          <a:xfrm>
            <a:off x="324000" y="2500200"/>
            <a:ext cx="3311280" cy="40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640" y="188640"/>
            <a:ext cx="828072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3200" spc="-1" strike="noStrike" cap="all">
                <a:solidFill>
                  <a:srgbClr val="4e3b30"/>
                </a:solidFill>
                <a:latin typeface="Arial"/>
              </a:rPr>
              <a:t>Перечень чаев, потребляемых населением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1640" y="1196640"/>
            <a:ext cx="871272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1.Импра          8.Ристон       15.Акбар               2.Пиала           9.Мери         16.Марьям 3.Сулаймани  10.Майский   17.Гита  4.Гринфилд     11.Батлер       18.Тесс 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5.Здоровье     12.Науруз       19.Липтон              6.Бадже           13.Нури          20.Ахмад               7.Финал           14.Беседа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Объект 6"/>
          <p:cNvGraphicFramePr/>
          <p:nvPr/>
        </p:nvGraphicFramePr>
        <p:xfrm>
          <a:off x="250920" y="260640"/>
          <a:ext cx="8713440" cy="7409160"/>
        </p:xfrm>
        <a:graphic>
          <a:graphicData uri="http://schemas.openxmlformats.org/drawingml/2006/table">
            <a:tbl>
              <a:tblPr/>
              <a:tblGrid>
                <a:gridCol w="576720"/>
                <a:gridCol w="2327760"/>
                <a:gridCol w="984240"/>
                <a:gridCol w="648000"/>
                <a:gridCol w="2724120"/>
                <a:gridCol w="1452240"/>
              </a:tblGrid>
              <a:tr h="12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Название  ч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Кол-во семей из 102 сем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Название  ч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Кол-во сем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Принцесса Нур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3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Акбар,  Гринфил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Здоровь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Липто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Те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2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Науруз, Беседа, Ги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Имп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Ахмад, Майск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Пиа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3200" spc="-1" strike="noStrike">
                        <a:solidFill>
                          <a:schemeClr val="dk1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3200" spc="-1" strike="noStrike">
                        <a:solidFill>
                          <a:schemeClr val="dk1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3200" spc="-1" strike="noStrike">
                        <a:solidFill>
                          <a:schemeClr val="dk1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1" name="Таблица 1"/>
          <p:cNvGraphicFramePr/>
          <p:nvPr/>
        </p:nvGraphicFramePr>
        <p:xfrm>
          <a:off x="201600" y="174960"/>
          <a:ext cx="8762400" cy="5774040"/>
        </p:xfrm>
        <a:graphic>
          <a:graphicData uri="http://schemas.openxmlformats.org/drawingml/2006/table">
            <a:tbl>
              <a:tblPr/>
              <a:tblGrid>
                <a:gridCol w="645120"/>
                <a:gridCol w="2312640"/>
                <a:gridCol w="995040"/>
                <a:gridCol w="618480"/>
                <a:gridCol w="2729520"/>
                <a:gridCol w="1460880"/>
              </a:tblGrid>
              <a:tr h="243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639000" y="260640"/>
            <a:ext cx="7697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Химический состав листового ч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icture 2"/>
          <p:cNvSpPr/>
          <p:nvPr/>
        </p:nvSpPr>
        <p:spPr>
          <a:xfrm>
            <a:off x="3530520" y="2157120"/>
            <a:ext cx="1905120" cy="27889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icture 3"/>
          <p:cNvSpPr/>
          <p:nvPr/>
        </p:nvSpPr>
        <p:spPr>
          <a:xfrm>
            <a:off x="248400" y="2338200"/>
            <a:ext cx="1841760" cy="185760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icture 4"/>
          <p:cNvSpPr/>
          <p:nvPr/>
        </p:nvSpPr>
        <p:spPr>
          <a:xfrm>
            <a:off x="6856560" y="2034000"/>
            <a:ext cx="2130840" cy="2841120"/>
          </a:xfrm>
          <a:prstGeom prst="roundRect">
            <a:avLst>
              <a:gd name="adj" fmla="val 8594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2185920" y="5697360"/>
            <a:ext cx="20984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Дуби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461880" y="5229360"/>
            <a:ext cx="1762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Эфир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ма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5"/>
          <p:cNvSpPr/>
          <p:nvPr/>
        </p:nvSpPr>
        <p:spPr>
          <a:xfrm>
            <a:off x="6772320" y="5650920"/>
            <a:ext cx="2026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Алкало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7"/>
          <p:cNvSpPr/>
          <p:nvPr/>
        </p:nvSpPr>
        <p:spPr>
          <a:xfrm>
            <a:off x="513360" y="1069200"/>
            <a:ext cx="3969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Белковые       Минер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вещества          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8"/>
          <p:cNvSpPr/>
          <p:nvPr/>
        </p:nvSpPr>
        <p:spPr>
          <a:xfrm>
            <a:off x="6989040" y="1023120"/>
            <a:ext cx="1839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Пиг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9"/>
          <p:cNvSpPr/>
          <p:nvPr/>
        </p:nvSpPr>
        <p:spPr>
          <a:xfrm>
            <a:off x="4652640" y="1006560"/>
            <a:ext cx="1894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Витам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Прямая со стрелкой 16"/>
          <p:cNvCxnSpPr/>
          <p:nvPr/>
        </p:nvCxnSpPr>
        <p:spPr>
          <a:xfrm>
            <a:off x="5641920" y="4365000"/>
            <a:ext cx="1497240" cy="1038960"/>
          </a:xfrm>
          <a:prstGeom prst="straightConnector1">
            <a:avLst/>
          </a:prstGeom>
          <a:ln>
            <a:solidFill>
              <a:srgbClr val="b58b80"/>
            </a:solidFill>
            <a:round/>
            <a:tailEnd len="med" type="arrow" w="med"/>
          </a:ln>
        </p:spPr>
      </p:cxnSp>
      <p:cxnSp>
        <p:nvCxnSpPr>
          <p:cNvPr id="203" name="Прямая со стрелкой 18"/>
          <p:cNvCxnSpPr/>
          <p:nvPr/>
        </p:nvCxnSpPr>
        <p:spPr>
          <a:xfrm flipH="1" flipV="1">
            <a:off x="1691640" y="1900080"/>
            <a:ext cx="1684080" cy="794520"/>
          </a:xfrm>
          <a:prstGeom prst="straightConnector1">
            <a:avLst/>
          </a:prstGeom>
          <a:ln>
            <a:solidFill>
              <a:srgbClr val="b58b80"/>
            </a:solidFill>
            <a:round/>
            <a:tailEnd len="med" type="arrow" w="med"/>
          </a:ln>
        </p:spPr>
      </p:cxnSp>
      <p:cxnSp>
        <p:nvCxnSpPr>
          <p:cNvPr id="204" name="Прямая со стрелкой 23"/>
          <p:cNvCxnSpPr/>
          <p:nvPr/>
        </p:nvCxnSpPr>
        <p:spPr>
          <a:xfrm flipH="1">
            <a:off x="3375360" y="5024520"/>
            <a:ext cx="756000" cy="672840"/>
          </a:xfrm>
          <a:prstGeom prst="straightConnector1">
            <a:avLst/>
          </a:prstGeom>
          <a:ln>
            <a:solidFill>
              <a:srgbClr val="b58b80"/>
            </a:solidFill>
            <a:round/>
            <a:tailEnd len="med" type="arrow" w="med"/>
          </a:ln>
        </p:spPr>
      </p:cxnSp>
      <p:cxnSp>
        <p:nvCxnSpPr>
          <p:cNvPr id="205" name="Прямая со стрелкой 24"/>
          <p:cNvCxnSpPr/>
          <p:nvPr/>
        </p:nvCxnSpPr>
        <p:spPr>
          <a:xfrm flipV="1">
            <a:off x="5114520" y="1484640"/>
            <a:ext cx="321840" cy="595800"/>
          </a:xfrm>
          <a:prstGeom prst="straightConnector1">
            <a:avLst/>
          </a:prstGeom>
          <a:ln>
            <a:solidFill>
              <a:srgbClr val="b58b80"/>
            </a:solidFill>
            <a:round/>
            <a:tailEnd len="med" type="arrow" w="med"/>
          </a:ln>
        </p:spPr>
      </p:cxnSp>
      <p:cxnSp>
        <p:nvCxnSpPr>
          <p:cNvPr id="206" name="Прямая со стрелкой 25"/>
          <p:cNvCxnSpPr/>
          <p:nvPr/>
        </p:nvCxnSpPr>
        <p:spPr>
          <a:xfrm flipV="1">
            <a:off x="5641920" y="1484640"/>
            <a:ext cx="1497240" cy="1296360"/>
          </a:xfrm>
          <a:prstGeom prst="straightConnector1">
            <a:avLst/>
          </a:prstGeom>
          <a:ln>
            <a:solidFill>
              <a:srgbClr val="b58b80"/>
            </a:solidFill>
            <a:round/>
            <a:tailEnd len="med" type="arrow" w="med"/>
          </a:ln>
        </p:spPr>
      </p:cxnSp>
      <p:cxnSp>
        <p:nvCxnSpPr>
          <p:cNvPr id="207" name="Прямая со стрелкой 26"/>
          <p:cNvCxnSpPr/>
          <p:nvPr/>
        </p:nvCxnSpPr>
        <p:spPr>
          <a:xfrm flipH="1">
            <a:off x="2096640" y="3501000"/>
            <a:ext cx="1279080" cy="1728360"/>
          </a:xfrm>
          <a:prstGeom prst="straightConnector1">
            <a:avLst/>
          </a:prstGeom>
          <a:ln>
            <a:solidFill>
              <a:srgbClr val="b58b80"/>
            </a:solidFill>
            <a:round/>
            <a:tailEnd len="med" type="arrow" w="med"/>
          </a:ln>
        </p:spPr>
      </p:cxnSp>
      <p:sp>
        <p:nvSpPr>
          <p:cNvPr id="208" name="TextBox 2"/>
          <p:cNvSpPr/>
          <p:nvPr/>
        </p:nvSpPr>
        <p:spPr>
          <a:xfrm>
            <a:off x="5092560" y="5857200"/>
            <a:ext cx="1771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Углеводы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Прямая со стрелкой 19"/>
          <p:cNvCxnSpPr/>
          <p:nvPr/>
        </p:nvCxnSpPr>
        <p:spPr>
          <a:xfrm>
            <a:off x="5064120" y="5024520"/>
            <a:ext cx="674640" cy="779760"/>
          </a:xfrm>
          <a:prstGeom prst="straightConnector1">
            <a:avLst/>
          </a:prstGeom>
          <a:ln>
            <a:solidFill>
              <a:srgbClr val="b58b80"/>
            </a:solidFill>
            <a:round/>
            <a:tailEnd len="med" type="arrow" w="med"/>
          </a:ln>
        </p:spPr>
      </p:cxnSp>
      <p:cxnSp>
        <p:nvCxnSpPr>
          <p:cNvPr id="210" name="Прямая со стрелкой 20"/>
          <p:cNvCxnSpPr/>
          <p:nvPr/>
        </p:nvCxnSpPr>
        <p:spPr>
          <a:xfrm flipH="1" flipV="1">
            <a:off x="3753360" y="1782360"/>
            <a:ext cx="235800" cy="320760"/>
          </a:xfrm>
          <a:prstGeom prst="straightConnector1">
            <a:avLst/>
          </a:prstGeom>
          <a:ln>
            <a:solidFill>
              <a:srgbClr val="b58b8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-11160" y="188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Franklin Gothic Book"/>
              </a:rPr>
              <a:t>Органолептические показа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Прямая со стрелкой 3"/>
          <p:cNvCxnSpPr/>
          <p:nvPr/>
        </p:nvCxnSpPr>
        <p:spPr>
          <a:xfrm flipH="1">
            <a:off x="971280" y="980640"/>
            <a:ext cx="799200" cy="3357720"/>
          </a:xfrm>
          <a:prstGeom prst="straightConnector1">
            <a:avLst/>
          </a:prstGeom>
          <a:ln>
            <a:solidFill>
              <a:srgbClr val="a5644e"/>
            </a:solidFill>
            <a:round/>
            <a:tailEnd len="med" type="arrow" w="med"/>
          </a:ln>
        </p:spPr>
      </p:cxnSp>
      <p:cxnSp>
        <p:nvCxnSpPr>
          <p:cNvPr id="213" name="Прямая со стрелкой 4"/>
          <p:cNvCxnSpPr/>
          <p:nvPr/>
        </p:nvCxnSpPr>
        <p:spPr>
          <a:xfrm>
            <a:off x="3314880" y="927000"/>
            <a:ext cx="321120" cy="3078360"/>
          </a:xfrm>
          <a:prstGeom prst="straightConnector1">
            <a:avLst/>
          </a:prstGeom>
          <a:ln>
            <a:solidFill>
              <a:srgbClr val="a5644e"/>
            </a:solidFill>
            <a:round/>
            <a:tailEnd len="med" type="arrow" w="med"/>
          </a:ln>
        </p:spPr>
      </p:cxnSp>
      <p:cxnSp>
        <p:nvCxnSpPr>
          <p:cNvPr id="214" name="Прямая со стрелкой 6"/>
          <p:cNvCxnSpPr/>
          <p:nvPr/>
        </p:nvCxnSpPr>
        <p:spPr>
          <a:xfrm>
            <a:off x="3857400" y="802800"/>
            <a:ext cx="1002960" cy="3637080"/>
          </a:xfrm>
          <a:prstGeom prst="straightConnector1">
            <a:avLst/>
          </a:prstGeom>
          <a:ln>
            <a:solidFill>
              <a:srgbClr val="a5644e"/>
            </a:solidFill>
            <a:round/>
            <a:tailEnd len="med" type="arrow" w="med"/>
          </a:ln>
        </p:spPr>
      </p:cxnSp>
      <p:cxnSp>
        <p:nvCxnSpPr>
          <p:cNvPr id="215" name="Прямая со стрелкой 7"/>
          <p:cNvCxnSpPr/>
          <p:nvPr/>
        </p:nvCxnSpPr>
        <p:spPr>
          <a:xfrm>
            <a:off x="5605920" y="867240"/>
            <a:ext cx="360" cy="812880"/>
          </a:xfrm>
          <a:prstGeom prst="straightConnector1">
            <a:avLst/>
          </a:prstGeom>
          <a:ln>
            <a:solidFill>
              <a:srgbClr val="a5644e"/>
            </a:solidFill>
            <a:round/>
            <a:tailEnd len="med" type="arrow" w="med"/>
          </a:ln>
        </p:spPr>
      </p:cxnSp>
      <p:cxnSp>
        <p:nvCxnSpPr>
          <p:cNvPr id="216" name="Прямая со стрелкой 8"/>
          <p:cNvCxnSpPr/>
          <p:nvPr/>
        </p:nvCxnSpPr>
        <p:spPr>
          <a:xfrm>
            <a:off x="6856200" y="802800"/>
            <a:ext cx="1028520" cy="2124360"/>
          </a:xfrm>
          <a:prstGeom prst="straightConnector1">
            <a:avLst/>
          </a:prstGeom>
          <a:ln>
            <a:solidFill>
              <a:srgbClr val="a5644e"/>
            </a:solidFill>
            <a:round/>
            <a:tailEnd len="med" type="arrow" w="med"/>
          </a:ln>
        </p:spPr>
      </p:cxnSp>
      <p:cxnSp>
        <p:nvCxnSpPr>
          <p:cNvPr id="217" name="Прямая со стрелкой 9"/>
          <p:cNvCxnSpPr/>
          <p:nvPr/>
        </p:nvCxnSpPr>
        <p:spPr>
          <a:xfrm flipH="1">
            <a:off x="2267640" y="896400"/>
            <a:ext cx="504360" cy="1725120"/>
          </a:xfrm>
          <a:prstGeom prst="straightConnector1">
            <a:avLst/>
          </a:prstGeom>
          <a:ln>
            <a:solidFill>
              <a:srgbClr val="a5644e"/>
            </a:solidFill>
            <a:round/>
            <a:tailEnd len="med" type="arrow" w="med"/>
          </a:ln>
        </p:spPr>
      </p:cxnSp>
      <p:sp>
        <p:nvSpPr>
          <p:cNvPr id="218" name="TextBox 10"/>
          <p:cNvSpPr/>
          <p:nvPr/>
        </p:nvSpPr>
        <p:spPr>
          <a:xfrm>
            <a:off x="204840" y="4338000"/>
            <a:ext cx="228564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a5644e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Franklin Gothic Book"/>
              </a:rPr>
              <a:t>Внешний вид чайного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7"/>
          <p:cNvSpPr/>
          <p:nvPr/>
        </p:nvSpPr>
        <p:spPr>
          <a:xfrm>
            <a:off x="4320360" y="1726560"/>
            <a:ext cx="249984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a5644e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Franklin Gothic Book"/>
              </a:rPr>
              <a:t>Цвет развар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Franklin Gothic Book"/>
              </a:rPr>
              <a:t>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2"/>
          <p:cNvSpPr/>
          <p:nvPr/>
        </p:nvSpPr>
        <p:spPr>
          <a:xfrm>
            <a:off x="6402600" y="2926800"/>
            <a:ext cx="264276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a5644e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Franklin Gothic Book"/>
              </a:rPr>
              <a:t>Пенообразование при завари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7"/>
          <p:cNvSpPr/>
          <p:nvPr/>
        </p:nvSpPr>
        <p:spPr>
          <a:xfrm>
            <a:off x="1759320" y="2668320"/>
            <a:ext cx="1285560" cy="821160"/>
          </a:xfrm>
          <a:prstGeom prst="rect">
            <a:avLst/>
          </a:prstGeom>
          <a:solidFill>
            <a:srgbClr val="ffffff"/>
          </a:solidFill>
          <a:ln>
            <a:solidFill>
              <a:srgbClr val="a5644e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Franklin Gothic Book"/>
              </a:rPr>
              <a:t>Аро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0"/>
          <p:cNvSpPr/>
          <p:nvPr/>
        </p:nvSpPr>
        <p:spPr>
          <a:xfrm>
            <a:off x="3207240" y="4208760"/>
            <a:ext cx="856800" cy="455400"/>
          </a:xfrm>
          <a:prstGeom prst="rect">
            <a:avLst/>
          </a:prstGeom>
          <a:solidFill>
            <a:srgbClr val="ffffff"/>
          </a:solidFill>
          <a:ln>
            <a:solidFill>
              <a:srgbClr val="a5644e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Franklin Gothic Book"/>
              </a:rPr>
              <a:t>Вкус</a:t>
            </a:r>
            <a:r>
              <a:rPr b="0" lang="ru-RU" sz="1800" spc="-1" strike="noStrike">
                <a:solidFill>
                  <a:schemeClr val="dk1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3"/>
          <p:cNvSpPr/>
          <p:nvPr/>
        </p:nvSpPr>
        <p:spPr>
          <a:xfrm>
            <a:off x="4641480" y="4439520"/>
            <a:ext cx="928440" cy="455400"/>
          </a:xfrm>
          <a:prstGeom prst="rect">
            <a:avLst/>
          </a:prstGeom>
          <a:solidFill>
            <a:srgbClr val="ffffff"/>
          </a:solidFill>
          <a:ln>
            <a:solidFill>
              <a:srgbClr val="a5644e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Franklin Gothic Book"/>
              </a:rPr>
              <a:t>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:\Users\Илшат\Desktop\иссл. работа МАН\SAM_3675.JPG"/>
          <p:cNvPicPr/>
          <p:nvPr/>
        </p:nvPicPr>
        <p:blipFill>
          <a:blip r:embed="rId1"/>
          <a:srcRect l="0" t="0" r="0" b="12579"/>
          <a:stretch/>
        </p:blipFill>
        <p:spPr>
          <a:xfrm>
            <a:off x="77040" y="710280"/>
            <a:ext cx="9046440" cy="6147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85640" y="57960"/>
            <a:ext cx="8229240" cy="4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800" spc="-1" strike="noStrike" cap="all">
                <a:solidFill>
                  <a:srgbClr val="4e3b30"/>
                </a:solidFill>
                <a:latin typeface="Franklin Gothic Medium"/>
              </a:rPr>
              <a:t>Структура  чая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D:\иссл. работа МАН\SAM_3752.JPG"/>
          <p:cNvPicPr/>
          <p:nvPr/>
        </p:nvPicPr>
        <p:blipFill>
          <a:blip r:embed="rId1"/>
          <a:srcRect l="0" t="17840" r="15130" b="0"/>
          <a:stretch/>
        </p:blipFill>
        <p:spPr>
          <a:xfrm>
            <a:off x="251640" y="1196640"/>
            <a:ext cx="2304000" cy="29736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86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cap="all">
                <a:solidFill>
                  <a:srgbClr val="4e3b30"/>
                </a:solidFill>
                <a:latin typeface="BatangChe"/>
                <a:ea typeface="BatangChe"/>
              </a:rPr>
              <a:t>Структура  чаинок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8" name="Picture 3" descr="D:\иссл. работа МАН\SAM_3750.JPG"/>
          <p:cNvPicPr/>
          <p:nvPr/>
        </p:nvPicPr>
        <p:blipFill>
          <a:blip r:embed="rId2"/>
          <a:srcRect l="0" t="16755" r="16376" b="0"/>
          <a:stretch/>
        </p:blipFill>
        <p:spPr>
          <a:xfrm>
            <a:off x="3708000" y="1208880"/>
            <a:ext cx="2221560" cy="2949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D:\иссл. работа МАН\SAM_3747.JPG"/>
          <p:cNvPicPr/>
          <p:nvPr/>
        </p:nvPicPr>
        <p:blipFill>
          <a:blip r:embed="rId3"/>
          <a:srcRect l="0" t="0" r="0" b="19822"/>
          <a:stretch/>
        </p:blipFill>
        <p:spPr>
          <a:xfrm rot="16200000">
            <a:off x="6332040" y="1669320"/>
            <a:ext cx="2919240" cy="1974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D:\иссл. работа МАН\SAM_3746.JPG"/>
          <p:cNvPicPr/>
          <p:nvPr/>
        </p:nvPicPr>
        <p:blipFill>
          <a:blip r:embed="rId4"/>
          <a:srcRect l="15510" t="15930" r="0" b="17392"/>
          <a:stretch/>
        </p:blipFill>
        <p:spPr>
          <a:xfrm rot="5400000">
            <a:off x="1735920" y="3944160"/>
            <a:ext cx="3155760" cy="2371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D:\иссл. работа МАН\SAM_3743.JPG"/>
          <p:cNvPicPr/>
          <p:nvPr/>
        </p:nvPicPr>
        <p:blipFill>
          <a:blip r:embed="rId5"/>
          <a:srcRect l="17550" t="15442" r="8757" b="0"/>
          <a:stretch/>
        </p:blipFill>
        <p:spPr>
          <a:xfrm>
            <a:off x="5580000" y="3552120"/>
            <a:ext cx="22111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3640" y="116640"/>
            <a:ext cx="8229240" cy="7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800" spc="-1" strike="noStrike" cap="all">
                <a:solidFill>
                  <a:srgbClr val="4e3b30"/>
                </a:solidFill>
                <a:latin typeface="Franklin Gothic Medium"/>
              </a:rPr>
              <a:t>Степень  завариваемости  чая 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3" name="Picture 2" descr="C:\Users\Илшат\Desktop\иссл. работа МАН\SAM_3677.JPG"/>
          <p:cNvPicPr/>
          <p:nvPr/>
        </p:nvPicPr>
        <p:blipFill>
          <a:blip r:embed="rId1"/>
          <a:srcRect l="0" t="19198" r="0" b="14400"/>
          <a:stretch/>
        </p:blipFill>
        <p:spPr>
          <a:xfrm>
            <a:off x="251640" y="1124640"/>
            <a:ext cx="8530920" cy="48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1860</TotalTime>
  <Application>LibreOffice/7.4.7.2$Linux_X86_64 LibreOffice_project/40$Build-2</Application>
  <AppVersion>15.0000</AppVersion>
  <Words>297</Words>
  <Paragraphs>102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1:24:01Z</dcterms:created>
  <dc:creator>Данил</dc:creator>
  <dc:description/>
  <dc:language>en-US</dc:language>
  <cp:lastModifiedBy>Гайсин</cp:lastModifiedBy>
  <dcterms:modified xsi:type="dcterms:W3CDTF">2016-02-16T17:40:13Z</dcterms:modified>
  <cp:revision>9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4</vt:r8>
  </property>
</Properties>
</file>