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CA4-4FD0-42CB-8AE9-EBD025F9BC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9720-6601-47D3-B3DE-CC1F298F2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BF9-5A15-44F4-85CB-8A82C5E0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074-3DE1-4FD6-AAA8-0C728D3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2F11-0588-4E68-9C11-1580A40F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D5F-8032-424E-B3E0-81D973E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6DEE-6A5B-4687-9BDE-41966464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E19-D10C-4DFD-811A-1A6F6CEF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3DE1-2252-4B17-BDEA-F899F22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AFD5-E114-43EE-AF75-61DF368A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B018-2AA6-4254-8CA4-3C2A5EBE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77FC-06BB-40DD-8E0F-DEEC4922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D54E-B49D-4C8C-8A00-0F4BCA6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C16-B58C-425F-9FA7-3C4CCA5E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35F-284C-4468-A20B-88077F6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06D3-0DC0-4454-9342-6C0F2A4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5F85-4AA7-4D58-B223-C7C91614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521-24BE-417F-8CA5-A25C8386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D28B-DCF5-4C77-B051-CF4BE1D0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821-3B57-41B9-BC3E-4AA13F6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A4D-BC8C-4632-9657-E2AB2A75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0E8-2A0C-433C-BA04-4447E73B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255-FDDF-49D7-AAEE-F5E92D1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86E-E2FA-41C8-81CE-CE2BBBF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A9F-4E2D-4660-87BB-EED3F4C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888-D8F7-4FB9-9DF3-DE670E59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D516-4C4F-4477-BE78-0A6672AE08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BA21-ADFB-450F-AE19-18CB276778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824A-FC00-4FA6-B557-7976FC28E1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Определение загрязненности 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снегового покрова вдоль автомобильных дорог </a:t>
            </a:r>
            <a:br>
              <a:rPr sz="4400"/>
            </a:b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г. Белорец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вдокимов Андрей, 11 кла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БУ Гимназия № 14 г. Белорец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У ДО СЮН, объединение Биоэк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Общая токсичность снега на участках по</a:t>
            </a:r>
            <a:br>
              <a:rPr sz="32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результатам всех исследован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AF0-A5C0-47E7-9AAF-E79A83E664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Объект 2" descr=""/>
          <p:cNvPicPr/>
          <p:nvPr/>
        </p:nvPicPr>
        <p:blipFill>
          <a:blip r:embed="rId1"/>
          <a:stretch/>
        </p:blipFill>
        <p:spPr>
          <a:xfrm>
            <a:off x="439560" y="1900080"/>
            <a:ext cx="85680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18CC-06B7-4B62-A78A-34B00EB0EA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533520" y="152280"/>
            <a:ext cx="76960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мосферный воздух подвергается сильному загрязнению. Основным источником загрязнения воздуха в городах является автотранспорт. Одним из индикаторов качества воздуха в зимний период является снеговой пок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ведено на 4 участках, выбранных в результате констатирующего эксперимента в зависимости от средней загруженности автотранспортом. В качестве контрольного выбран участок в лесопарковой зо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пробах, кроме контрольной снег имеет значение рН &gt; 7 во всех точках, это означает что он имеет щелочную реакцию, а значит загрязнен оксидами металлов, автомобильными выхлопами независимо от загруженности автотранспорт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рганолептических, химических показателей, результатов биотестирования показал, что наиболее токсичный снег на участках 1,4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еская обработка результатов все исследований выявила прямую зависимость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степенью токсичности и количеством проезжающего автотранспорта (степень корреляции – 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е количество проезжающего автотранспорта, тем токсичнее снег вдоль дороги. Гипотеза исследования подтверждена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888A-010B-4134-8C78-385733EB52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Гипотеза исследования: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если уровень загрязнения снега изменяется, то он выше вдоль дорог с более интенсивным движением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Цель исследования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пределить степень загрязненности снегового покрова на автомобильных дорогах с разной интенсивностью движ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делать теоретический анализ источников по теме исследова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ыбрать участки для исследования и определить качество снег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Обобщить результаты исследования и сделать вывод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– снег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Предмет исследования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– снег, взятый вдоль автомобильных дорог города Белорецк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Методы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: теоретические, эмпирические,  проведение качественного химического анализа, методы биотестирова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C08C-54D9-4B6D-92F4-25D40061DD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водная диаграмма количества автотранспорта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а единицу времен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одержимое 5" descr="Рисунок2.png"/>
          <p:cNvPicPr/>
          <p:nvPr/>
        </p:nvPicPr>
        <p:blipFill>
          <a:blip r:embed="rId1"/>
          <a:stretch/>
        </p:blipFill>
        <p:spPr>
          <a:xfrm>
            <a:off x="838080" y="1828800"/>
            <a:ext cx="7677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C97-9D89-433A-A610-062EE29E12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Рисунок 10" descr="Без имени-1.png"/>
          <p:cNvPicPr/>
          <p:nvPr/>
        </p:nvPicPr>
        <p:blipFill>
          <a:blip r:embed="rId1"/>
          <a:stretch/>
        </p:blipFill>
        <p:spPr>
          <a:xfrm>
            <a:off x="152280" y="1440"/>
            <a:ext cx="883944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3AAE-1C6F-4182-941D-116AA2E366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етодики исследования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етодика Федоровой А.И. подсчета загруженности территории автотранспортом на улицах го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пределение органолептических свойств талой снеговой воды (Рязанова Н.Е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пределение уровня кислотности талой воды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-метр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Определение ионов с помощью химических реакций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методика Муравьев А.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Биотестирование снега с помощью семян кресс-салата (Кубрина Е.В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9A8-4C43-4A3E-9CDB-7201B4C4314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842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пределение органолептических свойств талой снеговой вод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50880" y="1469880"/>
            <a:ext cx="4599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79" descr="KUrzct1twW4.jpg"/>
          <p:cNvPicPr/>
          <p:nvPr/>
        </p:nvPicPr>
        <p:blipFill>
          <a:blip r:embed="rId1"/>
          <a:stretch/>
        </p:blipFill>
        <p:spPr>
          <a:xfrm>
            <a:off x="533520" y="1752480"/>
            <a:ext cx="8296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A82C-4040-4CCE-B0C7-50417B92A0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Результаты определение уровня кислотности</a:t>
            </a: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 талой воды 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ph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-метром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Rectangle 221"/>
          <p:cNvSpPr/>
          <p:nvPr/>
        </p:nvSpPr>
        <p:spPr>
          <a:xfrm>
            <a:off x="1689120" y="1984320"/>
            <a:ext cx="404964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55" descr="Klx5AFI93vQ.jpg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50C-A883-4283-94C4-592C13CF76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2SO4 + BaCl2 = BaSO4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адо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+ 2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gNO3 + Na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Ag2S↓ + NaN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Pb(NO3)2 + K2CrO4 = PbCrO4</a:t>
            </a: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+ 2KN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Рисунок 5" descr="Рисунок3.jpg"/>
          <p:cNvPicPr/>
          <p:nvPr/>
        </p:nvPicPr>
        <p:blipFill>
          <a:blip r:embed="rId1"/>
          <a:stretch/>
        </p:blipFill>
        <p:spPr>
          <a:xfrm>
            <a:off x="533520" y="2120760"/>
            <a:ext cx="3547800" cy="47372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Рисунок4.jpg"/>
          <p:cNvPicPr/>
          <p:nvPr/>
        </p:nvPicPr>
        <p:blipFill>
          <a:blip r:embed="rId2"/>
          <a:stretch/>
        </p:blipFill>
        <p:spPr>
          <a:xfrm>
            <a:off x="5105520" y="2120760"/>
            <a:ext cx="3547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B0E1-DF43-4C25-8D8F-6C131BF9E4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fba92689-cd2d-4f35-ae7a-835462a7e97e"/>
          <p:cNvPicPr/>
          <p:nvPr/>
        </p:nvPicPr>
        <p:blipFill>
          <a:blip r:embed="rId1"/>
          <a:stretch/>
        </p:blipFill>
        <p:spPr>
          <a:xfrm>
            <a:off x="155520" y="0"/>
            <a:ext cx="4886280" cy="3429000"/>
          </a:xfrm>
          <a:prstGeom prst="rect">
            <a:avLst/>
          </a:prstGeom>
          <a:ln w="0">
            <a:noFill/>
          </a:ln>
        </p:spPr>
      </p:pic>
      <p:pic>
        <p:nvPicPr>
          <p:cNvPr id="132" name="Объект 2" descr=""/>
          <p:cNvPicPr/>
          <p:nvPr/>
        </p:nvPicPr>
        <p:blipFill>
          <a:blip r:embed="rId2"/>
          <a:stretch/>
        </p:blipFill>
        <p:spPr>
          <a:xfrm>
            <a:off x="228600" y="3233880"/>
            <a:ext cx="8231040" cy="3951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2" descr=""/>
          <p:cNvPicPr/>
          <p:nvPr/>
        </p:nvPicPr>
        <p:blipFill>
          <a:blip r:embed="rId3"/>
          <a:stretch/>
        </p:blipFill>
        <p:spPr>
          <a:xfrm>
            <a:off x="5365800" y="9360"/>
            <a:ext cx="31431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0T07:30:17Z</dcterms:created>
  <dc:creator>Home</dc:creator>
  <dc:description/>
  <dc:language>en-US</dc:language>
  <cp:lastModifiedBy>Любовь Владимировна Баукина</cp:lastModifiedBy>
  <dcterms:modified xsi:type="dcterms:W3CDTF">2022-01-30T02:20:26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